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95C-80D9-4658-B57B-8E4375C3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F85-1723-4F11-8CD5-899DCB09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78C-0E54-4C3A-BB49-DABEDCB9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F1-9C49-478E-A141-18DA1CDA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70BE-03C5-4101-8C02-B69597D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794-B777-439A-8613-A26705F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DE6-4B01-4D87-8AD6-B8185859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4AB4-5669-442E-AB60-A53A3BD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CE12-396D-4B4C-BDE0-7792A75E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7F19-C7DB-4B57-9084-FEEE048B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C9B-5E4B-479B-A9B6-175EBAF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9D9-5B6B-414C-A1F4-35C1234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EFC9-837B-4420-B6A0-09EFF96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DFA8-C24C-4776-9933-4DE77D65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95B-D289-4C35-A781-8047CB3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C2A-6BB7-4408-9AA7-8E74FD31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6E72-116B-4546-99EC-ECD8FC45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D38-9E34-4683-A8ED-B65D623A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074-05E2-4ED8-97C8-DE0F87A1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1F1-23BF-4853-ABC4-0D6DF33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CEF-E8B4-46FB-A4A4-88AD79B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2DA-0C9B-488D-A29F-629BB52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2F5-3953-4849-9FC9-3FE60BA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F26-C4FA-4DD4-B854-AF2AEFD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C018-2E0E-479D-98FF-12F7889BD62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2320-2FC8-462B-950D-9BDB31BCD92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5904" t="13000" r="4324" b="41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20" y="2377800"/>
            <a:ext cx="27403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诸葛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出师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3160" y="5600880"/>
            <a:ext cx="193680" cy="588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5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出师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733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731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诚宜开张圣听，以光先帝遗德，恢弘志士之气，不宜妄自菲薄，引喻失义，以塞忠谏之路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2286000"/>
            <a:ext cx="788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诚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在。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遗德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遗留的美德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来，表目的。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妄自菲薄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于小看自己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以致，表结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343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陛下）实在应该广泛地听取意见，发扬先帝遗留下来的美德，振奋有抱负的人的志气，不应当随便看轻自己，说一些不恰当的话，以致堵塞（人们）忠言劝谏的道路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964120" y="228600"/>
            <a:ext cx="866520" cy="916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一段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2960" y="27432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利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2654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帝崩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22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下三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9480" y="3276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益州疲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23623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47242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利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3434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懈于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5334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忘身于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6440" y="44751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95128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971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60720" y="3429000"/>
            <a:ext cx="106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诚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32480" y="48006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正反对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73080" y="2874960"/>
            <a:ext cx="1521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楷体_GB2312"/>
              </a:rPr>
              <a:t>开张圣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3880"/>
            <a:ext cx="3352680" cy="825120"/>
          </a:xfrm>
          <a:prstGeom prst="rect">
            <a:avLst/>
          </a:prstGeom>
          <a:noFill/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一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152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文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2743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危急存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7242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追殊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陛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352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914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宫中府中，俱为一体，陟罚臧否，不宜异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191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皇宫中和丞相府中的人，都是国家的官员；升降官吏，评论人物，不应该因在宫中或在府中而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3348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异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2849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偏义复词。此处指异。“同”字无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整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-22536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657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457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有作奸犯科及为忠善者，宜付有司论其刑赏，以昭陛下平明之理，不宜偏私，使内外异法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680" y="14335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忠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忠国家的事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善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事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者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连词，来，表目的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昭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显示，表明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平明之理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正清明的治理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异法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法异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法令不同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气词，停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191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有作奸邪事情、犯科条法令，或做了好事对国家有贡献的，都应该交给主管的官员判定他们受罚或者受赏，来显示陛下公正严明的治理，而不应当有偏袒和私心，使朝廷内外刑赏的法令不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2004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191120" y="228600"/>
            <a:ext cx="335268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段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33526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3276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宜：俱为一体，付  有司论其刑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724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宜：异同，偏私，  内外异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35268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38862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昭陛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明之理（目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3352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文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752480"/>
            <a:ext cx="3352680" cy="825120"/>
          </a:xfrm>
          <a:prstGeom prst="rect">
            <a:avLst/>
          </a:prstGeom>
          <a:noFill/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二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949680" y="3657600"/>
            <a:ext cx="2352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严明赏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赏罚公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78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侍中侍郎郭攸之、费祎、董允等，此皆良实，志虑忠纯，是以先帝简拔以遗陛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40" y="2209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此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些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良实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形容词作名词用，善良诚实的人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是以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是，因此，不能解释为“所以”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“拣”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词，表目的，“来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4365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侍中、侍郎郭攸之、费祎、董允等人，这些都善良诚实的人，他们的志向和思虑都忠诚纯正，因此先帝把他们选拔出来留给陛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3049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愚以为宫中之事，事无大小，悉以咨之，然后施行，必能裨补阙漏，有所广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1337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时自称，我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无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论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，介词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“缺”，缺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4800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认为宫廷中的事情，无论大小，都拿来问问他们，然后实行，就一定能够弥补缺点和疏漏之处，得到更多的成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76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962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向宠，性行淑均，晓畅军事，试用于昔日，先帝称之曰能，是以众议举宠为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20968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晓畅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晓，熟悉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昔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曰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，是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是以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，不能解释为“所以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8769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将军向宠，性格品行善良平正，通晓军事，过去试用他的时候，先帝称赞他有才能，因此大家商议推举他做中部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1752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76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37339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762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愚以为营中之事，悉以咨之，必能使行阵和睦，优劣得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44197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认为军队中的事情，都拿来问问他，就一定能够使军队团结和睦，才能高的和才能低的都得到合理的安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666880"/>
            <a:ext cx="76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优劣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才能高的人，才能低的人。形容词用作名词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所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该去的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981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609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亲贤臣，远小人，此先汉所以兴隆也；亲小人，远贤臣，此后汉所以倾颓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163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亲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近。形容词用作动词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远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疏远。形容词用作动词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所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因，可译为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原因”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兴隆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旺发达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倾颓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覆衰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952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亲近贤臣，疏远小人，这是先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兴旺发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原因；亲近小人，疏远贤臣，这是后汉倾覆衰败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55440"/>
            <a:ext cx="7162560" cy="825120"/>
          </a:xfrm>
          <a:prstGeom prst="rect">
            <a:avLst/>
          </a:prstGeom>
          <a:solidFill>
            <a:srgbClr val="ff99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鞠躬尽瘁死而后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15280" y="-35712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51960" y="106668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长使英雄泪满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1320" y="114300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出师未捷身先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990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17c1"/>
                </a:solidFill>
                <a:latin typeface="Times New Roman"/>
                <a:ea typeface="幼圆"/>
              </a:rPr>
              <a:t>你知道诸葛亮的哪些事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3828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93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出师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3733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685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在时，每与臣论此事，未尝不叹息痛恨于桓、灵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2238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于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气词，停顿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痛恨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343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帝在世的时候，每次和我谈论这些事情，没有不为桓、灵二帝的昏庸而叹息，而感到痛心遗憾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752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4114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762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侍中、尚书、长史、参军，此悉贞良死节之臣，愿陛下亲之信之，则汉室之隆，可计日而待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680" y="2558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良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优秀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则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那么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可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可以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计日而待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着日子而等待。指为时不远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而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800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侍中、尚书、长史、参军，这些人都是忠贞可靠、能够以死报国的忠臣，希望陛下亲近他们，信任他们，这样汉朝的兴隆便为时不远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429000" y="304920"/>
            <a:ext cx="5715000" cy="764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分析第三四五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9000" y="175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宫中之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19000" y="259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营中之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42120" y="1752480"/>
            <a:ext cx="1643760" cy="581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先帝简拔之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504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裨补阙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所广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440" y="2590920"/>
            <a:ext cx="164376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先帝称能之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5040" y="2286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行阵和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优劣得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19810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80120" y="159804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荐贤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11400" y="3429000"/>
            <a:ext cx="1887480" cy="581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贤臣，远小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572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先汉兴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93040" y="4162320"/>
            <a:ext cx="1887480" cy="581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小人，远贤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9572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后汉倾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581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172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反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史教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71304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80120" y="32101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教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2362320"/>
            <a:ext cx="152640" cy="1676160"/>
          </a:xfrm>
          <a:custGeom>
            <a:avLst/>
            <a:gdLst>
              <a:gd name="textAreaLeft" fmla="*/ 97560 w 152640"/>
              <a:gd name="textAreaRight" fmla="*/ 15300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0800" y="1204560"/>
            <a:ext cx="115524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亲贤远佞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贤臣，远小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610480" y="182880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915400" y="33526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772400" y="5562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5181480"/>
            <a:ext cx="3533400" cy="764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汉室之隆，可计日而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文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14400"/>
            <a:ext cx="3352680" cy="825120"/>
          </a:xfrm>
          <a:prstGeom prst="rect">
            <a:avLst/>
          </a:prstGeom>
          <a:noFill/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三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609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臣本布衣，躬耕于南阳，苟全性命于乱世，不求闻达于诸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213372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布衣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借代用法，指平民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躬耕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亲自耕种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：在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苟全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苟且保全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乱世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乱世里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闻达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官扬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4876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本来是一个平民，在南阳亲自种地，只希望在乱世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且保全性命，不希求在诸侯那里做官扬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809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609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先帝不以臣卑鄙，猥自枉屈，三顾臣于草庐之中，咨臣以当世之事，由是感激，遂许先帝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驱驰</a:t>
            </a: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760" y="205740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咨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询问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拿。介词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是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于这样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感激</a:t>
            </a: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所感而情绪激动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拿，介词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驱驰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奔走效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040" y="4572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帝不因为我身份低微，出身低下，亲自降低身份，三次到草庐中来探望我，向我询问对当代的大事，我因此有所感而情绪激动，就答应为先帝奔走效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值倾覆，受任于败军之际，奉命于危难之间，尔来二十有一年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26208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值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遇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有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又”，表余数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际、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尔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那以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矣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4876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来遇到兵败，在军事上失败的时候接受重任，在危难紧迫的关头奉命出使，从那时到现在已经二十一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2057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-149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3809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0066"/>
                </a:solidFill>
                <a:latin typeface="Times New Roman"/>
              </a:rPr>
              <a:t>先帝知臣谨慎，故临崩寄臣以大事也。受命以来，夙夜忧叹，恐托付不效，以伤先帝之明，故五月渡泸，深入不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82880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故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所以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寄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托付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也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气词，表停顿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早晨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托付不效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付的事情未能办到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效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效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以致，表结果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伤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毛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长草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3962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帝知道我办事谨慎，所以临终的时候，把国家大事托付给我。我接受命令以来，早晚忧虑叹息，惟恐托付给我的大事做得没有成效，以致有损于先帝的明察。所以五月渡过泸水，深入到不长庄稼的荒凉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3962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655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南方已定，兵甲已足，当奖率三军，北定中原，庶竭驽钝，攘除奸凶，兴复汉室，还于旧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48164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在南方的叛乱已经平定，武器装备已经充足，应当勉励并率领三军，北上平定中原。我希望能够竭尽自己低下的才能，去铲除奸邪凶恶的敌人，振兴汉朝，迁回旧都洛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2651040"/>
            <a:ext cx="81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定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定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兵甲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武器装备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奸凶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奸邪凶恶的人，形容词作名词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还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返回原来的地方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，介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472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庶：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762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臣所以报先帝而忠陛下之职分也。至于斟酌损益，进尽忠言，则攸之、祎、允之任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75248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所以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事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词，并列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职分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职责。也：表判断，“是”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损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减少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益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增加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尽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全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也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气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960" y="4419720"/>
            <a:ext cx="81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就是我用来报答先帝，效忠陛下的职责。至于考虑朝中政事是否可行，毫无保留地向陛下提出忠诚的劝谏，那就是郭攸之、费祎、董允等人的责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1828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272840" y="228600"/>
            <a:ext cx="3106800" cy="8251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六七段逐句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20880" y="1219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99"/>
                </a:solidFill>
                <a:latin typeface="Times New Roman"/>
              </a:rPr>
              <a:t>第六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62760" y="1981080"/>
            <a:ext cx="20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叙己志向：身份，生活，追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格高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1720" y="2666880"/>
            <a:ext cx="32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三顾草庐：求贤若渴  礼贤下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是感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53440" y="3276720"/>
            <a:ext cx="20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叙共患难经历：创业艰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效忠心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0880" y="3733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99"/>
                </a:solidFill>
                <a:latin typeface="Times New Roman"/>
              </a:rPr>
              <a:t>第七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04320" y="44197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叙托孤之事，提挈全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11440" y="49528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受命以来的心情、行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26000" y="5410080"/>
            <a:ext cx="24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北定中原，兴复汉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师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55240" y="58672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补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文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05320" y="228600"/>
            <a:ext cx="563868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诸葛亮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181─234)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三国时卓越的政治家、军事家。字孔明。琅琊阳都（今山东省沂水县）人。早年避乱于荆州，曾躬耕于南阳隆中。建安十二年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207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刘备三顾茅庐，请他出山共图大业。次年，他辅佐刘备联合孙权，在赤壁击败曹操，形成三足鼎立的局面。刘备称帝后，拜他为丞相。刘备去世时托付他辅佐后主刘禅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shàn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后卒于军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19360" cy="496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9036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陛下托臣以讨贼兴复之效，不效则治臣之罪，以告先帝之灵。若无兴德之言，则责攸之、祎、允等之慢，以彰其咎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9040" y="175248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。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Times New Roman"/>
              </a:rPr>
              <a:t>效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任务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效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功效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来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兴德之言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扬皇上恩德的忠言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来，连词，表目的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彰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显示，表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咎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失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消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4343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希望陛下把讨伐曹魏、兴复汉室的任务交付给我，如果不能实现，就治我的罪，来告慰先帝在天之灵。如果没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发扬圣德的忠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就应当责罚郭攸之、费祎、董允等人的怠慢失职，来指明他们的过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3886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6858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陛下亦宜自谋，以咨诹善道，察纳雅言，深追先帝遗诏。臣不胜受恩感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4648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陛下也应该自行谋划，征询治国的良策，认识、采纳正确的言论，深切追念先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遗命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接受你的恩泽，心中非常激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828800"/>
            <a:ext cx="8305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自谋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想自己的问题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而”，并列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咨、诹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询问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善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治国的好办法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察纳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别采纳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雅言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言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深追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深切地追念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遗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遗命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不胜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承担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752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14400" y="1828800"/>
            <a:ext cx="7238880" cy="3733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18640" y="581040"/>
            <a:ext cx="2009520" cy="8251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99"/>
                </a:solidFill>
                <a:latin typeface="Times New Roman"/>
                <a:ea typeface="楷体_GB2312"/>
              </a:rPr>
              <a:t>第八段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57560" y="2133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首先，严于律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5760" y="32767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其次，严格要求朝廷诸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16120" y="441972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最后，向后主提出希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13744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3352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文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3886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当远离，临表涕零，不知所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4648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在我就要远离陛下了，面对这份奏表，禁不住流下泪水，也不知说了些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2743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面对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涕零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流泪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涕，泪。零，落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838080" y="17524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诸葛亮对当前形势的分析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9036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理解文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2895480"/>
            <a:ext cx="6324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客观条件：</a:t>
            </a:r>
            <a:r>
              <a:rPr b="1" lang="zh-CN" sz="3200" spc="-1" strike="noStrike">
                <a:solidFill>
                  <a:srgbClr val="99300b"/>
                </a:solidFill>
                <a:latin typeface="Times New Roman"/>
              </a:rPr>
              <a:t>今天下三分，益州疲弊，此诚危急存亡之秋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4267080"/>
            <a:ext cx="6477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主观条件</a:t>
            </a:r>
            <a:r>
              <a:rPr b="1" lang="zh-CN" sz="3200" spc="-1" strike="noStrike">
                <a:solidFill>
                  <a:srgbClr val="99300b"/>
                </a:solidFill>
                <a:latin typeface="Times New Roman"/>
              </a:rPr>
              <a:t>：侍卫之臣不懈于内，忠志之士忘身于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2120" y="9144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诸葛亮向后主提出的三条建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1752480"/>
            <a:ext cx="396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张圣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陟罚臧否，不宜异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亲贤臣，远小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1600200"/>
            <a:ext cx="228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广开言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严明赏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亲贤远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14800" y="190512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4832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198108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4267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作者自叙志趣过人，不求功名的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52578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苟全性命于乱世，不求闻达于诸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4572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文中两句千古名言，说尽诸葛亮一生的话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219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受任于败军之际，奉命于危难之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2438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文中列举的使诸葛亮报先帝忠陛 下的两 件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429000" cy="25941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276720" cy="2544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7913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白帝城托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601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三顾茅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219320" y="1905120"/>
            <a:ext cx="58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诸葛亮此次出师的目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124080"/>
            <a:ext cx="7620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今南方已定，兵甲已足。当奖率三军，北定中原，庶竭驽钝，攘除奸凶，兴复汉室，还于旧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1314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80880" y="763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课外拓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1371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下边一副对联概括了诸葛亮一生的功绩，你能说出描写了他的哪些具体的事件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25909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（四）文中隐藏了许多成语，能找出来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600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妄自菲薄      三顾茅庐    不知所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236232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引喻失义     作奸犯科     苟全性命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裨补阙漏     指日可待     察纳雅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斟酌损益     感激涕零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38098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好聪明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2743200" cy="1050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6800" y="2284560"/>
            <a:ext cx="814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表是一种文体，古代奏议的一种，臣子写给皇帝的奏章，用于向君王陈说作者的请求和愿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 “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出师表”是出兵打仗前，主帅给君主上的奏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诸葛亮写了两篇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出师表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，即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前出师表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和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后出师表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，我们学的是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前出师表</a:t>
            </a:r>
            <a:r>
              <a:rPr b="1" lang="en-US" sz="3600" spc="-1" strike="noStrike">
                <a:solidFill>
                  <a:srgbClr val="330066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0066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解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8600" y="1752480"/>
            <a:ext cx="82296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诸葛亮这篇表文写于蜀汉建兴五年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2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）第一次出师伐魏之前。他当时感到刘禅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shàn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暗昧懦弱，颇有内顾之忧，所以临出发前上书刘禅，目的是恳切劝谏，要刘禅继承刘备遗志，振作精神，听信忠言，任用贤良，严明赏罚，尽心国事，有一个稳定的战略后方，以图完成复兴汉室，统一天下的大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时代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11280" y="4071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划线字的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（    ）   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妄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4842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276640"/>
            <a:ext cx="10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227664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1417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39337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39337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724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558972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58972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4797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3141720"/>
            <a:ext cx="9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4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4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4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4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4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33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之   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阵和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史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夜忧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彰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损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62064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62064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14130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220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276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306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35160" y="38606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3860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465300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0328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ē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13040" y="5516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翻译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帝创业未半而中道崩殂，今天下三分，益州疲弊，此诚危急存亡之秋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90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1148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2849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民力困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5560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疲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果真，实在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表判断，相当于“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7856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724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帝开创（统一全国）的事业还没有完成一半，却中途去世了。现在天下分裂成三个国家，蜀汉民力困乏，这实在是危急存亡的时候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286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而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转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849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益州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借代用法，指蜀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原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809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343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然而朝中官员们在首都毫不懈怠，忠诚有志的将士们在外面舍生忘死，是因为（他们）追念先帝（对他们）的特殊待遇，想要在陛下身上报恩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685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然侍卫之臣不懈于内，忠志之士忘身于外者，盖追先帝之殊遇，欲报之于陛下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6004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首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89520" y="2209680"/>
            <a:ext cx="23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</a:t>
            </a: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转折，然而</a:t>
            </a:r>
            <a:r>
              <a:rPr b="1" lang="zh-CN" sz="3200" spc="-1" strike="noStrike">
                <a:solidFill>
                  <a:srgbClr val="33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220968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懈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懈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7734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者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也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判断，相当于“是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忘身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奋不顾身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之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代词，代“殊遇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752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8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盖，表推测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44:10Z</dcterms:created>
  <dc:creator>hanqy</dc:creator>
  <dc:description/>
  <dc:language>en-US</dc:language>
  <cp:lastModifiedBy>微软用户</cp:lastModifiedBy>
  <dcterms:modified xsi:type="dcterms:W3CDTF">2015-09-23T03:16:37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