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jpeg" ContentType="image/jpeg"/>
  <Override PartName="/ppt/media/image13.png" ContentType="image/png"/>
  <Override PartName="/ppt/media/image8.png" ContentType="image/png"/>
  <Override PartName="/ppt/media/image5.gif" ContentType="image/gif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5.gif" ContentType="image/gif"/>
  <Override PartName="/ppt/media/image21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chimes.wav" ContentType="audio/x-wav"/>
  <Override PartName="/ppt/media/image10.png" ContentType="image/png"/>
  <Override PartName="/ppt/media/image23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  <p:sldId id="310" r:id="rId62"/>
    <p:sldId id="311" r:id="rId63"/>
    <p:sldId id="312" r:id="rId64"/>
    <p:sldId id="313" r:id="rId6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slide" Target="slides/slide55.xml"/><Relationship Id="rId63" Type="http://schemas.openxmlformats.org/officeDocument/2006/relationships/slide" Target="slides/slide56.xml"/><Relationship Id="rId64" Type="http://schemas.openxmlformats.org/officeDocument/2006/relationships/slide" Target="slides/slide57.xml"/><Relationship Id="rId65" Type="http://schemas.openxmlformats.org/officeDocument/2006/relationships/slide" Target="slides/slide58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5585-3E4C-481E-BE99-AE2DB8FC5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2153-14AF-48FC-8080-758A2E4D6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0196-5746-498C-8CE4-992B4BDDF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51DC-FA12-4D10-87B4-2061BFA8F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758F1-FD23-41F6-A58F-233874F7B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CA713-AF61-40C3-B913-1F2084566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1F5C9-34EC-423F-8309-D17EE6863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A8CD1-4CC4-4A4C-8C26-774005BD8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52266-7216-4350-B0F9-9111B53BD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02F81-EDBF-4B20-A428-08CC71390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17CFD-C060-47B5-A57C-768E41A8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50B6-66A5-44E6-9466-ECF6F8671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AC202-F24B-4957-A24A-D67645FB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30AE8-4080-4BB5-8D9B-2F105EDA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F2EF3-4DF6-4921-89B9-D086773E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60182-7598-4CFD-9CD3-A4F7FC397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9A7D4-ECAF-4AEC-B333-7AA739BF3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4665C-861A-4963-A786-83F28BB42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05AF9-6477-427D-AF30-9A2281C4E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3CE77-BFD4-4C7C-9128-3B2F6D67C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5FCB3-BBCE-4526-B75B-CDE578693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A0C03-A91A-4F1F-A465-ECD99CA94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020B-52A6-4891-8655-0642E2460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CDAB0-36CB-482C-A66E-6B3733039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138A6-49DB-498B-B0EF-31596D49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12E92-50B4-488A-8EE9-64EDD17E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74B44-B02D-454A-B3BE-95B84843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18631-6F69-4CD4-BFC7-5A2345138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68667-2596-4737-8975-E375951D4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F3C1F-DD0E-436E-9558-112E279A8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3D612-8CA0-49D1-8708-15B5CECA0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CB963-2D23-41D8-ABC0-D6A3DECA7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39947-F465-4A1A-832F-7A970363D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1714-7E58-430C-974C-F0952531C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54CD3-F005-4826-A5DA-DF2A6A2E1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97249-DC6F-4759-89D2-B5F7838F2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FAAE9-BA69-4174-BB2B-AA8DC458F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0C692-C601-4529-AA4E-DC6A2A21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6736A-F53D-471C-8B40-531277A9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A8876-37C0-4C22-85A8-2F9FF42E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DB085-54C7-4B99-A7EC-7CA80E0E8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E5A99-ACC7-43A5-BC61-149C5A00B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8D971-DD74-408F-A4FC-C55314149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92B5C-5749-4D32-BF0E-523A8BD19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018F-DFD5-470A-8474-C2E32C194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68966-A5E1-4DB2-87BA-F5FD82DE6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46B45-B646-419E-87D1-8F665BE1E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9E682-47C4-4DF6-83C0-83E94FE11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1D758-E8A7-41D2-AA7C-465DA2C50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FB724-6927-43D6-979D-DE9FB71E5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16E90-8558-46FA-9F77-3D8B595A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EFA39-33F2-48A6-9229-3D06E45F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26E8F-22B4-4085-B632-35EE8362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5F658-2FB8-4FAD-AF2E-3570C5958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7DA9F-047F-460C-8E5A-DFED50572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8310-0A35-4474-B8BE-278186FFB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B7237-A79F-4F5B-BD77-531C3508E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32A43-A67A-4AEE-B45C-78927627F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BCB39-7211-40A1-81E9-F40B502A0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D7D5A-ECC7-4033-8063-5629B5C54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9ABE3-57F2-46DB-A782-1C950A6C5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3F0B67-5CE4-45D9-871F-405B1C796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6ABA7-F98F-4D74-B2E0-7ED3F2566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01837-2B05-4614-B0E5-DE48A618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5C462D-E985-44BF-B72F-9084A842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85A9AA-259B-4DA3-94A9-2040B01B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34F6-8ABF-44F1-BCD6-996F6D2C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9239B-77E7-47D9-8A5D-19D692658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CF920-26FB-4474-8B86-5C61D0CD3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C84F2-BDA3-4418-96D2-49C1BB8B2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4986-E835-45D8-A8BB-7864DEBB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EF3E-DA53-4643-81D8-BCDF2556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735DB-003F-4BAD-808A-8152D63E7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8A9C5-6A64-4A44-8E57-AD60E5DB6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11744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5384880" y="6356520"/>
            <a:ext cx="54864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1148076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8E698-CBD0-424F-BB39-5D896C0FFF55}" type="slidenum">
              <a:rPr b="0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3D40B-E379-4506-8DCE-AF25C7210A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111744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5384880" y="6356520"/>
            <a:ext cx="54864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1148076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CF5CD-101D-4BB0-BAF2-6CBE3CF9B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1844E-3B78-4226-8E63-663E348E6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xk.cn.yahoo.com/articles/071122/1/5ql0_2.html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file:///tmp/home/.config/libreoffice/4/user/gallery/30-5&#28180;&#23478;&#20658;.wav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WordArt 3"/>
          <p:cNvSpPr txBox="1"/>
          <p:nvPr/>
        </p:nvSpPr>
        <p:spPr>
          <a:xfrm>
            <a:off x="1523880" y="0"/>
            <a:ext cx="305928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词的常识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247" name="文本框 1"/>
          <p:cNvSpPr/>
          <p:nvPr/>
        </p:nvSpPr>
        <p:spPr>
          <a:xfrm>
            <a:off x="766800" y="1773360"/>
            <a:ext cx="1109016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8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词是一种诗的别体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萌芽于南朝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兴起于隋唐、全盛于宋代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的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一种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新诗体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。词最初称为“曲词”或者“曲子词”，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别称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有：近体乐府、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长短句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、曲子、曲词、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乐章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、琴趣、诗余等，是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配合宴乐乐曲而填写的歌诗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，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词牌是词的调子的名称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，不同的词牌在总句数、句数，每句的字数、平仄上都有规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1774800" y="620640"/>
            <a:ext cx="8458200" cy="2311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　  写作背景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038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年西夏昊称帝后，连年侵宋。由于积贫积弱，边防空虚，宋军一败于延州，再败于好水川，三败于定川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040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年，范仲淹被调到延州上任。延州是西夏出入关要害，战后城寨焚掠殆尽，戍兵皆无壁垒，散处城中。此词即作于任延州知县的时候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9" dur="indefinite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u=26819423,3128439806&amp;gp=0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3"/>
          <p:cNvSpPr/>
          <p:nvPr/>
        </p:nvSpPr>
        <p:spPr>
          <a:xfrm>
            <a:off x="4162320" y="404640"/>
            <a:ext cx="5294520" cy="63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塞下秋来风景异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衡阳雁去无留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四面边角连声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千嶂里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长烟落日孤城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浊酒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一杯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家万里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燕然未勒归无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羌笛悠悠霜满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人不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将军白发征夫泪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1429560" y="692280"/>
            <a:ext cx="182628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渔家傲  范仲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【音频】渔家傲·秋思.m4a" descr=""/>
          <p:cNvPicPr/>
          <p:nvPr/>
        </p:nvPicPr>
        <p:blipFill>
          <a:blip r:embed="rId2"/>
          <a:stretch/>
        </p:blipFill>
        <p:spPr>
          <a:xfrm>
            <a:off x="10363320" y="52848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1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u=26819423,3128439806&amp;gp=0"/>
          <p:cNvPicPr/>
          <p:nvPr/>
        </p:nvPicPr>
        <p:blipFill>
          <a:blip r:embed="rId1"/>
          <a:stretch/>
        </p:blipFill>
        <p:spPr>
          <a:xfrm>
            <a:off x="623880" y="0"/>
            <a:ext cx="1087272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88" name="Text Box 3"/>
          <p:cNvSpPr/>
          <p:nvPr/>
        </p:nvSpPr>
        <p:spPr>
          <a:xfrm>
            <a:off x="2747880" y="23328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赏析诗歌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4"/>
          <p:cNvSpPr/>
          <p:nvPr/>
        </p:nvSpPr>
        <p:spPr>
          <a:xfrm>
            <a:off x="2208240" y="156384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塞下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秋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风景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5"/>
          <p:cNvSpPr/>
          <p:nvPr/>
        </p:nvSpPr>
        <p:spPr>
          <a:xfrm>
            <a:off x="5735520" y="198432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5735520" y="1839960"/>
            <a:ext cx="4932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7"/>
          <p:cNvGrpSpPr/>
          <p:nvPr/>
        </p:nvGrpSpPr>
        <p:grpSpPr>
          <a:xfrm>
            <a:off x="5519880" y="1125360"/>
            <a:ext cx="4968360" cy="1191240"/>
            <a:chOff x="5519880" y="1125360"/>
            <a:chExt cx="4968360" cy="1191240"/>
          </a:xfrm>
        </p:grpSpPr>
        <p:sp>
          <p:nvSpPr>
            <p:cNvPr id="293" name="Rectangle 8"/>
            <p:cNvSpPr/>
            <p:nvPr/>
          </p:nvSpPr>
          <p:spPr>
            <a:xfrm>
              <a:off x="5575680" y="1800360"/>
              <a:ext cx="4838760" cy="3762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9"/>
            <p:cNvSpPr/>
            <p:nvPr/>
          </p:nvSpPr>
          <p:spPr>
            <a:xfrm>
              <a:off x="5519880" y="1125360"/>
              <a:ext cx="4968360" cy="11912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宋体"/>
                  <a:ea typeface="黑体"/>
                </a:rPr>
                <a:t>“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塞下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  <a:ea typeface="黑体"/>
                </a:rPr>
                <a:t>”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点明了地点，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  <a:ea typeface="黑体"/>
                </a:rPr>
                <a:t>“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秋来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  <a:ea typeface="黑体"/>
                </a:rPr>
                <a:t>”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点明了时间，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  <a:ea typeface="黑体"/>
                </a:rPr>
                <a:t>“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异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  <a:ea typeface="黑体"/>
                </a:rPr>
                <a:t>”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字统领全词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Rectangle 10"/>
          <p:cNvSpPr/>
          <p:nvPr/>
        </p:nvSpPr>
        <p:spPr>
          <a:xfrm>
            <a:off x="1919160" y="400536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衡阳雁去无留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11"/>
          <p:cNvSpPr/>
          <p:nvPr/>
        </p:nvSpPr>
        <p:spPr>
          <a:xfrm>
            <a:off x="5016600" y="1657440"/>
            <a:ext cx="503280" cy="520560"/>
          </a:xfrm>
          <a:prstGeom prst="ellips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5519880" y="3789360"/>
            <a:ext cx="4572000" cy="1739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此句用了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拟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修辞，侧面描写出边塞的异常苦寒：雁尚且无留恋之情，将士又何以忍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3"/>
          <p:cNvSpPr/>
          <p:nvPr/>
        </p:nvSpPr>
        <p:spPr>
          <a:xfrm>
            <a:off x="3863880" y="4724280"/>
            <a:ext cx="1511280" cy="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u=26819423,3128439806&amp;gp=0"/>
          <p:cNvPicPr/>
          <p:nvPr/>
        </p:nvPicPr>
        <p:blipFill>
          <a:blip r:embed="rId1"/>
          <a:stretch/>
        </p:blipFill>
        <p:spPr>
          <a:xfrm>
            <a:off x="623880" y="0"/>
            <a:ext cx="1123308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00" name="Rectangle 3"/>
          <p:cNvSpPr/>
          <p:nvPr/>
        </p:nvSpPr>
        <p:spPr>
          <a:xfrm>
            <a:off x="1774800" y="836640"/>
            <a:ext cx="3889440" cy="16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面边声连角起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千嶂里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长烟落日孤城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5951520" y="29559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5"/>
          <p:cNvSpPr/>
          <p:nvPr/>
        </p:nvSpPr>
        <p:spPr>
          <a:xfrm>
            <a:off x="5951520" y="29559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6"/>
          <p:cNvSpPr/>
          <p:nvPr/>
        </p:nvSpPr>
        <p:spPr>
          <a:xfrm>
            <a:off x="5951520" y="299232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7"/>
          <p:cNvSpPr/>
          <p:nvPr/>
        </p:nvSpPr>
        <p:spPr>
          <a:xfrm>
            <a:off x="5951520" y="29559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8"/>
          <p:cNvSpPr/>
          <p:nvPr/>
        </p:nvSpPr>
        <p:spPr>
          <a:xfrm>
            <a:off x="5951520" y="0"/>
            <a:ext cx="4716360" cy="39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描写边塞黄昏的苍凉景色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边声连角起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表明战事紧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千嶂里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边塞崇山连绵，让人产生一种无尽的孤寂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孤城闭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暗示敌强我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2"/>
          <p:cNvSpPr/>
          <p:nvPr/>
        </p:nvSpPr>
        <p:spPr>
          <a:xfrm>
            <a:off x="3082320" y="1890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浊酒一杯家万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2171160" y="24922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燕然未勒归无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4"/>
          <p:cNvSpPr/>
          <p:nvPr/>
        </p:nvSpPr>
        <p:spPr>
          <a:xfrm>
            <a:off x="2763720" y="32338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5"/>
          <p:cNvSpPr/>
          <p:nvPr/>
        </p:nvSpPr>
        <p:spPr>
          <a:xfrm>
            <a:off x="2171160" y="465300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羌管悠悠霜满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7535880" y="197316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6024600" y="9032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8"/>
          <p:cNvSpPr/>
          <p:nvPr/>
        </p:nvSpPr>
        <p:spPr>
          <a:xfrm>
            <a:off x="5683320" y="664200"/>
            <a:ext cx="558000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浊酒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表明边塞生活的艰苦，酒是自酿的成色较差的酒。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家万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表现了思乡之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9"/>
          <p:cNvSpPr/>
          <p:nvPr/>
        </p:nvSpPr>
        <p:spPr>
          <a:xfrm>
            <a:off x="3792600" y="180504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0"/>
          <p:cNvSpPr/>
          <p:nvPr/>
        </p:nvSpPr>
        <p:spPr>
          <a:xfrm>
            <a:off x="6024600" y="515304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1"/>
          <p:cNvSpPr/>
          <p:nvPr/>
        </p:nvSpPr>
        <p:spPr>
          <a:xfrm>
            <a:off x="6024600" y="518940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2"/>
          <p:cNvSpPr/>
          <p:nvPr/>
        </p:nvSpPr>
        <p:spPr>
          <a:xfrm>
            <a:off x="6300720" y="5230440"/>
            <a:ext cx="543564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这入夜的悠悠羌音、浓浓白霜，更使人惆怅难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3"/>
          <p:cNvSpPr/>
          <p:nvPr/>
        </p:nvSpPr>
        <p:spPr>
          <a:xfrm>
            <a:off x="4008600" y="59086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4"/>
          <p:cNvSpPr/>
          <p:nvPr/>
        </p:nvSpPr>
        <p:spPr>
          <a:xfrm>
            <a:off x="6888240" y="514044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5"/>
          <p:cNvSpPr/>
          <p:nvPr/>
        </p:nvSpPr>
        <p:spPr>
          <a:xfrm>
            <a:off x="6527880" y="586260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6"/>
          <p:cNvSpPr/>
          <p:nvPr/>
        </p:nvSpPr>
        <p:spPr>
          <a:xfrm>
            <a:off x="4800600" y="6438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7"/>
          <p:cNvSpPr/>
          <p:nvPr/>
        </p:nvSpPr>
        <p:spPr>
          <a:xfrm>
            <a:off x="6383160" y="593424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8"/>
          <p:cNvSpPr/>
          <p:nvPr/>
        </p:nvSpPr>
        <p:spPr>
          <a:xfrm>
            <a:off x="1774800" y="907920"/>
            <a:ext cx="1152720" cy="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9"/>
          <p:cNvSpPr/>
          <p:nvPr/>
        </p:nvSpPr>
        <p:spPr>
          <a:xfrm>
            <a:off x="3719520" y="907920"/>
            <a:ext cx="1152360" cy="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0"/>
          <p:cNvSpPr/>
          <p:nvPr/>
        </p:nvSpPr>
        <p:spPr>
          <a:xfrm>
            <a:off x="6288120" y="2200320"/>
            <a:ext cx="5473800" cy="678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慨叹功业未建，边患未除，归乡无期。运用典故表达了作者渴望建功立业的思想感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21"/>
          <p:cNvSpPr/>
          <p:nvPr/>
        </p:nvSpPr>
        <p:spPr>
          <a:xfrm>
            <a:off x="2495520" y="3141720"/>
            <a:ext cx="863640" cy="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22"/>
          <p:cNvSpPr/>
          <p:nvPr/>
        </p:nvSpPr>
        <p:spPr>
          <a:xfrm>
            <a:off x="2567160" y="5300640"/>
            <a:ext cx="863280" cy="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23"/>
          <p:cNvSpPr/>
          <p:nvPr/>
        </p:nvSpPr>
        <p:spPr>
          <a:xfrm>
            <a:off x="3575160" y="5300640"/>
            <a:ext cx="288720" cy="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24"/>
          <p:cNvSpPr/>
          <p:nvPr/>
        </p:nvSpPr>
        <p:spPr>
          <a:xfrm rot="16200000">
            <a:off x="3143160" y="5374800"/>
            <a:ext cx="289080" cy="428760"/>
          </a:xfrm>
          <a:custGeom>
            <a:avLst/>
            <a:gdLst>
              <a:gd name="textAreaLeft" fmla="*/ 184680 w 289080"/>
              <a:gd name="textAreaRight" fmla="*/ 289080 w 289080"/>
              <a:gd name="textAreaTop" fmla="*/ 33480 h 428760"/>
              <a:gd name="textAreaBottom" fmla="*/ 395280 h 428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00"/>
                  <a:pt x="10800" y="5399"/>
                </a:cubicBezTo>
                <a:lnTo>
                  <a:pt x="10800" y="5401"/>
                </a:lnTo>
                <a:cubicBezTo>
                  <a:pt x="10800" y="8101"/>
                  <a:pt x="5400" y="10800"/>
                  <a:pt x="0" y="10800"/>
                </a:cubicBezTo>
                <a:cubicBezTo>
                  <a:pt x="5400" y="10800"/>
                  <a:pt x="10800" y="13500"/>
                  <a:pt x="10800" y="16199"/>
                </a:cubicBezTo>
                <a:lnTo>
                  <a:pt x="10800" y="16201"/>
                </a:lnTo>
                <a:cubicBezTo>
                  <a:pt x="10800" y="18901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5"/>
          <p:cNvSpPr/>
          <p:nvPr/>
        </p:nvSpPr>
        <p:spPr>
          <a:xfrm>
            <a:off x="2063880" y="5734080"/>
            <a:ext cx="32400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营造出悲伤、凄凉、孤寂、惆怅的感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u=26819423,3128439806&amp;gp=0"/>
          <p:cNvPicPr/>
          <p:nvPr/>
        </p:nvPicPr>
        <p:blipFill>
          <a:blip r:embed="rId1"/>
          <a:stretch/>
        </p:blipFill>
        <p:spPr>
          <a:xfrm>
            <a:off x="334800" y="27000"/>
            <a:ext cx="1152216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31" name="Text Box 3"/>
          <p:cNvSpPr/>
          <p:nvPr/>
        </p:nvSpPr>
        <p:spPr>
          <a:xfrm>
            <a:off x="2830320" y="907920"/>
            <a:ext cx="127800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人不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将军白发征夫泪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6240600" y="317196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5"/>
          <p:cNvSpPr/>
          <p:nvPr/>
        </p:nvSpPr>
        <p:spPr>
          <a:xfrm>
            <a:off x="6311880" y="32446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6"/>
          <p:cNvSpPr/>
          <p:nvPr/>
        </p:nvSpPr>
        <p:spPr>
          <a:xfrm>
            <a:off x="5908680" y="806400"/>
            <a:ext cx="5292720" cy="1410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不寐”的是将军也是征夫，此处用了“互文”的修辞。流下的是思念家乡的泪，更是功业无成、壮志未酬的英雄泪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!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也有对朝廷不重边关的不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7"/>
          <p:cNvSpPr/>
          <p:nvPr/>
        </p:nvSpPr>
        <p:spPr>
          <a:xfrm>
            <a:off x="2063880" y="1413000"/>
            <a:ext cx="1224000" cy="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8"/>
          <p:cNvSpPr/>
          <p:nvPr/>
        </p:nvSpPr>
        <p:spPr>
          <a:xfrm>
            <a:off x="3575160" y="2060640"/>
            <a:ext cx="1224000" cy="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1774800" y="18900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下阕抒发了作者怎样的感情？从哪些语句可以读出？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方正启体简体"/>
                <a:ea typeface="方正启体简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2196000" y="14130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哀伤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方正启体简体"/>
                <a:ea typeface="方正启体简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6265440" y="1492200"/>
            <a:ext cx="106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方正启体简体"/>
              </a:rPr>
              <a:t>——</a:t>
            </a:r>
            <a:r>
              <a:rPr b="0" lang="zh-CN" sz="3600" spc="-1" strike="noStrike">
                <a:solidFill>
                  <a:srgbClr val="000066"/>
                </a:solidFill>
                <a:latin typeface="Times New Roman"/>
                <a:ea typeface="方正启体简体"/>
              </a:rPr>
              <a:t>人不寐，将军白发征夫泪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1992240" y="2276640"/>
            <a:ext cx="86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启体简体"/>
              </a:rPr>
              <a:t>为什么会这样？词中哪句点明了原因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6"/>
          <p:cNvSpPr/>
          <p:nvPr/>
        </p:nvSpPr>
        <p:spPr>
          <a:xfrm>
            <a:off x="5571360" y="314172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方正启体简体"/>
              </a:rPr>
              <a:t>浊酒一杯家万里，燕然未勒归无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7"/>
          <p:cNvSpPr/>
          <p:nvPr/>
        </p:nvSpPr>
        <p:spPr>
          <a:xfrm>
            <a:off x="1992240" y="400536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方正启体简体"/>
              </a:rPr>
              <a:t>这是全词的核心，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  <a:ea typeface="方正启体简体"/>
              </a:rPr>
              <a:t>作者揭示了自己和征夫们的的矛盾心理：既思念万里之外的家乡，却又为家国未定，功业难成而不甘归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2"/>
          <p:cNvSpPr/>
          <p:nvPr/>
        </p:nvSpPr>
        <p:spPr>
          <a:xfrm>
            <a:off x="1523880" y="2133720"/>
            <a:ext cx="838440" cy="2287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渔家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3000240" y="47628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上阕写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4"/>
          <p:cNvSpPr/>
          <p:nvPr/>
        </p:nvSpPr>
        <p:spPr>
          <a:xfrm>
            <a:off x="5880240" y="-100080"/>
            <a:ext cx="12240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雁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边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孤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长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落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5"/>
          <p:cNvSpPr/>
          <p:nvPr/>
        </p:nvSpPr>
        <p:spPr>
          <a:xfrm>
            <a:off x="5664240" y="0"/>
            <a:ext cx="372960" cy="3357720"/>
          </a:xfrm>
          <a:custGeom>
            <a:avLst/>
            <a:gdLst>
              <a:gd name="textAreaLeft" fmla="*/ 238320 w 372960"/>
              <a:gd name="textAreaRight" fmla="*/ 373320 w 372960"/>
              <a:gd name="textAreaTop" fmla="*/ 87480 h 3357720"/>
              <a:gd name="textAreaBottom" fmla="*/ 3270240 h 3357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6"/>
          <p:cNvSpPr/>
          <p:nvPr/>
        </p:nvSpPr>
        <p:spPr>
          <a:xfrm>
            <a:off x="6888240" y="0"/>
            <a:ext cx="360360" cy="3284640"/>
          </a:xfrm>
          <a:custGeom>
            <a:avLst/>
            <a:gdLst>
              <a:gd name="textAreaLeft" fmla="*/ 0 w 360360"/>
              <a:gd name="textAreaRight" fmla="*/ 129960 w 360360"/>
              <a:gd name="textAreaTop" fmla="*/ 85320 h 3284640"/>
              <a:gd name="textAreaBottom" fmla="*/ 3199320 h 328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7"/>
          <p:cNvSpPr/>
          <p:nvPr/>
        </p:nvSpPr>
        <p:spPr>
          <a:xfrm>
            <a:off x="7391520" y="836640"/>
            <a:ext cx="2232000" cy="22885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渲染荒凉萧瑟气氛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8"/>
          <p:cNvSpPr/>
          <p:nvPr/>
        </p:nvSpPr>
        <p:spPr>
          <a:xfrm>
            <a:off x="2927520" y="48690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下阕抒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9"/>
          <p:cNvSpPr/>
          <p:nvPr/>
        </p:nvSpPr>
        <p:spPr>
          <a:xfrm>
            <a:off x="3359160" y="1773360"/>
            <a:ext cx="1368360" cy="64260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景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0"/>
          <p:cNvSpPr/>
          <p:nvPr/>
        </p:nvSpPr>
        <p:spPr>
          <a:xfrm>
            <a:off x="5519880" y="4437000"/>
            <a:ext cx="33922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家万里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-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归无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羌管悠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-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霜满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燕然未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11"/>
          <p:cNvSpPr/>
          <p:nvPr/>
        </p:nvSpPr>
        <p:spPr>
          <a:xfrm>
            <a:off x="5303880" y="4581360"/>
            <a:ext cx="376200" cy="1600200"/>
          </a:xfrm>
          <a:custGeom>
            <a:avLst/>
            <a:gdLst>
              <a:gd name="textAreaLeft" fmla="*/ 240480 w 376200"/>
              <a:gd name="textAreaRight" fmla="*/ 376560 w 3762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5915"/>
                </a:lnTo>
                <a:cubicBezTo>
                  <a:pt x="10800" y="6815"/>
                  <a:pt x="5400" y="7714"/>
                  <a:pt x="0" y="7714"/>
                </a:cubicBezTo>
                <a:cubicBezTo>
                  <a:pt x="5400" y="7714"/>
                  <a:pt x="10800" y="8614"/>
                  <a:pt x="10800" y="9513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12"/>
          <p:cNvSpPr/>
          <p:nvPr/>
        </p:nvSpPr>
        <p:spPr>
          <a:xfrm>
            <a:off x="8472600" y="4653000"/>
            <a:ext cx="304560" cy="1676520"/>
          </a:xfrm>
          <a:custGeom>
            <a:avLst/>
            <a:gdLst>
              <a:gd name="textAreaLeft" fmla="*/ 0 w 304560"/>
              <a:gd name="textAreaRight" fmla="*/ 109800 w 30456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3"/>
          <p:cNvSpPr/>
          <p:nvPr/>
        </p:nvSpPr>
        <p:spPr>
          <a:xfrm>
            <a:off x="8759880" y="4508640"/>
            <a:ext cx="1908000" cy="132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抒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思乡报国之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4"/>
          <p:cNvSpPr/>
          <p:nvPr/>
        </p:nvSpPr>
        <p:spPr>
          <a:xfrm>
            <a:off x="3432240" y="5877000"/>
            <a:ext cx="1368360" cy="70344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流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5"/>
          <p:cNvSpPr/>
          <p:nvPr/>
        </p:nvSpPr>
        <p:spPr>
          <a:xfrm>
            <a:off x="3935520" y="2565360"/>
            <a:ext cx="0" cy="2303640"/>
          </a:xfrm>
          <a:prstGeom prst="line">
            <a:avLst/>
          </a:prstGeom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6"/>
          <p:cNvSpPr/>
          <p:nvPr/>
        </p:nvSpPr>
        <p:spPr>
          <a:xfrm>
            <a:off x="3143160" y="2565360"/>
            <a:ext cx="533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  <a:ea typeface="黑体"/>
              </a:rPr>
              <a:t>借景抒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7"/>
          <p:cNvSpPr/>
          <p:nvPr/>
        </p:nvSpPr>
        <p:spPr>
          <a:xfrm>
            <a:off x="9336240" y="2060640"/>
            <a:ext cx="0" cy="2448000"/>
          </a:xfrm>
          <a:prstGeom prst="line">
            <a:avLst/>
          </a:prstGeom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18"/>
          <p:cNvSpPr/>
          <p:nvPr/>
        </p:nvSpPr>
        <p:spPr>
          <a:xfrm>
            <a:off x="2279520" y="836640"/>
            <a:ext cx="936720" cy="5472000"/>
          </a:xfrm>
          <a:custGeom>
            <a:avLst/>
            <a:gdLst>
              <a:gd name="textAreaLeft" fmla="*/ 598680 w 936720"/>
              <a:gd name="textAreaRight" fmla="*/ 937080 w 936720"/>
              <a:gd name="textAreaTop" fmla="*/ 142560 h 5472000"/>
              <a:gd name="textAreaBottom" fmla="*/ 5329440 h 54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9"/>
          <p:cNvSpPr/>
          <p:nvPr/>
        </p:nvSpPr>
        <p:spPr>
          <a:xfrm>
            <a:off x="2782800" y="119700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风格：苍凉悲壮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20"/>
          <p:cNvSpPr/>
          <p:nvPr/>
        </p:nvSpPr>
        <p:spPr>
          <a:xfrm>
            <a:off x="3012840" y="5353200"/>
            <a:ext cx="218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风格：沉郁雄浑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WordArt 2"/>
          <p:cNvSpPr txBox="1"/>
          <p:nvPr/>
        </p:nvSpPr>
        <p:spPr>
          <a:xfrm>
            <a:off x="3503520" y="549360"/>
            <a:ext cx="4824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中心思想</a:t>
            </a:r>
            <a:endParaRPr b="1" lang="en-US" sz="1800" spc="1" strike="noStrike">
              <a:ln w="12600">
                <a:solidFill>
                  <a:srgbClr val="b2b2b2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1668600" y="2697120"/>
            <a:ext cx="89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&lt;&lt;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渔家傲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这首词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通过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写边塞的战地风光，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表现了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戍边将士塞外生活的艰辛和忧国思乡，孤独愁苦的心情，也表达了作者对朝廷腐朽、软弱、不修武备，不重边功的愤懑不平之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4"/>
          <p:cNvSpPr/>
          <p:nvPr/>
        </p:nvSpPr>
        <p:spPr>
          <a:xfrm>
            <a:off x="2495520" y="1009800"/>
            <a:ext cx="863640" cy="7333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矩形 35"/>
          <p:cNvSpPr/>
          <p:nvPr/>
        </p:nvSpPr>
        <p:spPr>
          <a:xfrm>
            <a:off x="1590840" y="4246560"/>
            <a:ext cx="9010440" cy="1441440"/>
          </a:xfrm>
          <a:prstGeom prst="rect">
            <a:avLst/>
          </a:prstGeom>
          <a:solidFill>
            <a:srgbClr val="80808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文本框 4130"/>
          <p:cNvSpPr/>
          <p:nvPr/>
        </p:nvSpPr>
        <p:spPr>
          <a:xfrm>
            <a:off x="3624120" y="4246560"/>
            <a:ext cx="494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江城子</a:t>
            </a: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·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密州出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直接连接符 37"/>
          <p:cNvSpPr/>
          <p:nvPr/>
        </p:nvSpPr>
        <p:spPr>
          <a:xfrm>
            <a:off x="3735360" y="5032440"/>
            <a:ext cx="47214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图片 1" descr=""/>
          <p:cNvPicPr/>
          <p:nvPr/>
        </p:nvPicPr>
        <p:blipFill>
          <a:blip r:embed="rId1"/>
          <a:srcRect l="0" t="0" r="0" b="12392"/>
          <a:stretch/>
        </p:blipFill>
        <p:spPr>
          <a:xfrm>
            <a:off x="3025800" y="320760"/>
            <a:ext cx="6140520" cy="3925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93bcf3e2f5dc582c8fe2dc2f461c2c66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3"/>
          <p:cNvSpPr/>
          <p:nvPr/>
        </p:nvSpPr>
        <p:spPr>
          <a:xfrm>
            <a:off x="3733920" y="914400"/>
            <a:ext cx="487656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如梦令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常记溪亭日暮，</a:t>
            </a:r>
            <a:r>
              <a:rPr b="1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6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沉醉不知归路。</a:t>
            </a:r>
            <a:r>
              <a:rPr b="1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6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兴尽晚回舟，  </a:t>
            </a:r>
            <a:r>
              <a:rPr b="1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误入藕花深处。</a:t>
            </a:r>
            <a:r>
              <a:rPr b="1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6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争渡，争渡，    </a:t>
            </a:r>
            <a:r>
              <a:rPr b="1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惊起一滩鸥鹭。</a:t>
            </a:r>
            <a:r>
              <a:rPr b="1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         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共</a:t>
            </a:r>
            <a:r>
              <a:rPr b="1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6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4" descr="qingzhao1"/>
          <p:cNvPicPr/>
          <p:nvPr/>
        </p:nvPicPr>
        <p:blipFill>
          <a:blip r:embed="rId2"/>
          <a:stretch/>
        </p:blipFill>
        <p:spPr>
          <a:xfrm>
            <a:off x="7711920" y="304920"/>
            <a:ext cx="29559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文本框 3"/>
          <p:cNvSpPr/>
          <p:nvPr/>
        </p:nvSpPr>
        <p:spPr>
          <a:xfrm>
            <a:off x="334800" y="1292400"/>
            <a:ext cx="9290160" cy="18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835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【苏轼】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37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，字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子瞻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号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东坡居士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世称苏东坡，北宋著名文学家、书法家、画家。苏轼是宋代文学最高成就的代表，并在诗、词、散文、书、画等方面取得了很高的成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35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诗题材广阔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清新豪健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善用夸张比喻，独具风格，与黄庭坚并称“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苏黄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；其词开豪放一派，与辛弃疾同是豪放派代表，并称“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苏辛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”；其散文著述宏富，豪放自如，与欧阳修并称“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欧苏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”，为“唐宋八大家”之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19"/>
          <p:cNvGrpSpPr/>
          <p:nvPr/>
        </p:nvGrpSpPr>
        <p:grpSpPr>
          <a:xfrm>
            <a:off x="1684440" y="492120"/>
            <a:ext cx="2319120" cy="700200"/>
            <a:chOff x="1684440" y="492120"/>
            <a:chExt cx="2319120" cy="700200"/>
          </a:xfrm>
        </p:grpSpPr>
        <p:pic>
          <p:nvPicPr>
            <p:cNvPr id="371" name="Picture 18" descr="未标题-1"/>
            <p:cNvPicPr/>
            <p:nvPr/>
          </p:nvPicPr>
          <p:blipFill>
            <a:blip r:embed="rId1"/>
            <a:stretch/>
          </p:blipFill>
          <p:spPr>
            <a:xfrm>
              <a:off x="1684440" y="49212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文本框 2"/>
            <p:cNvSpPr/>
            <p:nvPr/>
          </p:nvSpPr>
          <p:spPr>
            <a:xfrm>
              <a:off x="2220840" y="56844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走近作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3" name="图片 2" descr=""/>
          <p:cNvPicPr/>
          <p:nvPr/>
        </p:nvPicPr>
        <p:blipFill>
          <a:blip r:embed="rId2"/>
          <a:srcRect l="16410" t="0" r="8915" b="0"/>
          <a:stretch/>
        </p:blipFill>
        <p:spPr>
          <a:xfrm>
            <a:off x="9888480" y="1844640"/>
            <a:ext cx="196848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江城子1"/>
          <p:cNvPicPr/>
          <p:nvPr/>
        </p:nvPicPr>
        <p:blipFill>
          <a:blip r:embed="rId1"/>
          <a:stretch/>
        </p:blipFill>
        <p:spPr>
          <a:xfrm>
            <a:off x="119160" y="0"/>
            <a:ext cx="11809440" cy="685800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3"/>
          <p:cNvSpPr/>
          <p:nvPr/>
        </p:nvSpPr>
        <p:spPr>
          <a:xfrm>
            <a:off x="1828800" y="2057400"/>
            <a:ext cx="8458200" cy="33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江城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密州出猎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夫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聊发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年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狂，左牵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黄，右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擎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苍，锦帽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貂裘，千骑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卷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冈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报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倾城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随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太守，亲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射虎，看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孙郎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酒酣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胸胆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尚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开张。鬓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微霜，又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何妨！持节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云中，何日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遣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冯唐？会挽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雕弓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满月，西北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望，射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【音频】江城子·密州出猎（删改）.m4a" descr=""/>
          <p:cNvPicPr/>
          <p:nvPr/>
        </p:nvPicPr>
        <p:blipFill>
          <a:blip r:embed="rId2"/>
          <a:stretch/>
        </p:blipFill>
        <p:spPr>
          <a:xfrm>
            <a:off x="10287000" y="579924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2" dur="1" fill="hold"/>
                                        <p:tgtEl>
                                          <p:spTgt spid="3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4"/>
          <p:cNvSpPr/>
          <p:nvPr/>
        </p:nvSpPr>
        <p:spPr>
          <a:xfrm>
            <a:off x="2400120" y="26028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方正流行体简体"/>
              </a:rPr>
              <a:t>赏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5"/>
          <p:cNvSpPr/>
          <p:nvPr/>
        </p:nvSpPr>
        <p:spPr>
          <a:xfrm>
            <a:off x="1774800" y="162864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、上阕描绘的是怎样的内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你知道词中哪个字写出了他当时的心情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6"/>
          <p:cNvSpPr/>
          <p:nvPr/>
        </p:nvSpPr>
        <p:spPr>
          <a:xfrm>
            <a:off x="4869000" y="2882880"/>
            <a:ext cx="62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方正启体简体"/>
              </a:rPr>
              <a:t>描绘出猎时的盛大场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7"/>
          <p:cNvSpPr/>
          <p:nvPr/>
        </p:nvSpPr>
        <p:spPr>
          <a:xfrm>
            <a:off x="3359160" y="3429000"/>
            <a:ext cx="67690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方正启体简体"/>
                <a:ea typeface="方正启体简体"/>
              </a:rPr>
              <a:t>1</a:t>
            </a:r>
            <a:r>
              <a:rPr b="1" lang="zh-CN" sz="3600" spc="-1" strike="noStrike">
                <a:solidFill>
                  <a:srgbClr val="6600cc"/>
                </a:solidFill>
                <a:latin typeface="方正启体简体"/>
                <a:ea typeface="方正启体简体"/>
              </a:rPr>
              <a:t>、</a:t>
            </a:r>
            <a:r>
              <a:rPr b="0" lang="zh-CN" sz="3600" spc="-1" strike="noStrike">
                <a:solidFill>
                  <a:srgbClr val="6600cc"/>
                </a:solidFill>
                <a:latin typeface="方正启体简体"/>
                <a:ea typeface="方正启体简体"/>
              </a:rPr>
              <a:t>狂在装备齐全，随从众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8"/>
          <p:cNvSpPr/>
          <p:nvPr/>
        </p:nvSpPr>
        <p:spPr>
          <a:xfrm>
            <a:off x="2433600" y="419724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0000"/>
                </a:solidFill>
                <a:latin typeface="Times New Roman"/>
                <a:ea typeface="方正流行体简体"/>
              </a:rPr>
              <a:t>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9"/>
          <p:cNvSpPr/>
          <p:nvPr/>
        </p:nvSpPr>
        <p:spPr>
          <a:xfrm>
            <a:off x="4468680" y="4437000"/>
            <a:ext cx="37908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方正启体简体"/>
                <a:ea typeface="方正启体简体"/>
              </a:rPr>
              <a:t>2</a:t>
            </a:r>
            <a:r>
              <a:rPr b="1" lang="zh-CN" sz="3600" spc="-1" strike="noStrike">
                <a:solidFill>
                  <a:srgbClr val="6600cc"/>
                </a:solidFill>
                <a:latin typeface="方正启体简体"/>
                <a:ea typeface="方正启体简体"/>
              </a:rPr>
              <a:t>、</a:t>
            </a:r>
            <a:r>
              <a:rPr b="0" lang="zh-CN" sz="3600" spc="-1" strike="noStrike">
                <a:solidFill>
                  <a:srgbClr val="6600cc"/>
                </a:solidFill>
                <a:latin typeface="方正启体简体"/>
                <a:ea typeface="方正启体简体"/>
              </a:rPr>
              <a:t>狂在百姓倾城，观看狩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0"/>
          <p:cNvSpPr/>
          <p:nvPr/>
        </p:nvSpPr>
        <p:spPr>
          <a:xfrm>
            <a:off x="4468680" y="5443560"/>
            <a:ext cx="37908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方正启体简体"/>
                <a:ea typeface="方正启体简体"/>
              </a:rPr>
              <a:t>3</a:t>
            </a:r>
            <a:r>
              <a:rPr b="1" lang="zh-CN" sz="3600" spc="-1" strike="noStrike">
                <a:solidFill>
                  <a:srgbClr val="6600cc"/>
                </a:solidFill>
                <a:latin typeface="方正启体简体"/>
                <a:ea typeface="方正启体简体"/>
              </a:rPr>
              <a:t>、</a:t>
            </a:r>
            <a:r>
              <a:rPr b="0" lang="zh-CN" sz="3600" spc="-1" strike="noStrike">
                <a:solidFill>
                  <a:srgbClr val="6600cc"/>
                </a:solidFill>
                <a:latin typeface="方正启体简体"/>
                <a:ea typeface="方正启体简体"/>
              </a:rPr>
              <a:t>狂在自比孙郎，乘马射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4"/>
          <p:cNvSpPr/>
          <p:nvPr/>
        </p:nvSpPr>
        <p:spPr>
          <a:xfrm>
            <a:off x="2208240" y="206064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Times New Roman"/>
                <a:ea typeface="方正启体简体"/>
              </a:rPr>
              <a:t>上阕写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方正启体简体"/>
              </a:rPr>
              <a:t>出猎的盛况</a:t>
            </a:r>
            <a:r>
              <a:rPr b="0" lang="zh-CN" sz="3600" spc="-1" strike="noStrike">
                <a:solidFill>
                  <a:srgbClr val="cc0000"/>
                </a:solidFill>
                <a:latin typeface="Times New Roman"/>
                <a:ea typeface="方正启体简体"/>
              </a:rPr>
              <a:t>，表现了他</a:t>
            </a:r>
            <a:r>
              <a:rPr b="1" lang="zh-CN" sz="3600" spc="-1" strike="noStrike" u="sng">
                <a:solidFill>
                  <a:srgbClr val="cc0000"/>
                </a:solidFill>
                <a:uFillTx/>
                <a:latin typeface="Times New Roman"/>
                <a:ea typeface="方正启体简体"/>
              </a:rPr>
              <a:t>英武</a:t>
            </a:r>
            <a:r>
              <a:rPr b="0" lang="zh-CN" sz="3600" spc="-1" strike="noStrike">
                <a:solidFill>
                  <a:srgbClr val="cc0000"/>
                </a:solidFill>
                <a:latin typeface="Times New Roman"/>
                <a:ea typeface="方正启体简体"/>
              </a:rPr>
              <a:t>的身姿；进而又将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方正启体简体"/>
              </a:rPr>
              <a:t>自己与孙权相比</a:t>
            </a:r>
            <a:r>
              <a:rPr b="0" lang="zh-CN" sz="3600" spc="-1" strike="noStrike">
                <a:solidFill>
                  <a:srgbClr val="cc0000"/>
                </a:solidFill>
                <a:latin typeface="Times New Roman"/>
                <a:ea typeface="方正启体简体"/>
              </a:rPr>
              <a:t>，表达了词人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方正启体简体"/>
              </a:rPr>
              <a:t>非凡的气概</a:t>
            </a:r>
            <a:r>
              <a:rPr b="0" lang="zh-CN" sz="3600" spc="-1" strike="noStrike">
                <a:solidFill>
                  <a:srgbClr val="cc0000"/>
                </a:solidFill>
                <a:latin typeface="Times New Roman"/>
                <a:ea typeface="方正启体简体"/>
              </a:rPr>
              <a:t>。同时也为下阕抒情作了铺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5"/>
          <p:cNvSpPr/>
          <p:nvPr/>
        </p:nvSpPr>
        <p:spPr>
          <a:xfrm>
            <a:off x="1992240" y="62064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、上阕描绘这样盛大的出猎，目的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4"/>
          <p:cNvSpPr/>
          <p:nvPr/>
        </p:nvSpPr>
        <p:spPr>
          <a:xfrm>
            <a:off x="1992240" y="62064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、下阕哪个词集中抒发了他的情怀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5"/>
          <p:cNvSpPr/>
          <p:nvPr/>
        </p:nvSpPr>
        <p:spPr>
          <a:xfrm>
            <a:off x="3287880" y="155736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方正启体简体"/>
                <a:ea typeface="方正启体简体"/>
              </a:rPr>
              <a:t>开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方正启体简体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豪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2063880" y="249228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、表现在哪些诗句上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7"/>
          <p:cNvSpPr/>
          <p:nvPr/>
        </p:nvSpPr>
        <p:spPr>
          <a:xfrm>
            <a:off x="5806440" y="49417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  <a:ea typeface="方正启体简体"/>
              </a:rPr>
              <a:t>会挽雕弓如满月，西北望，射天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8"/>
          <p:cNvSpPr/>
          <p:nvPr/>
        </p:nvSpPr>
        <p:spPr>
          <a:xfrm>
            <a:off x="3297960" y="335772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  <a:ea typeface="方正启体简体"/>
              </a:rPr>
              <a:t>鬓微霜，又何妨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9"/>
          <p:cNvSpPr/>
          <p:nvPr/>
        </p:nvSpPr>
        <p:spPr>
          <a:xfrm>
            <a:off x="3544200" y="414972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  <a:ea typeface="方正启体简体"/>
              </a:rPr>
              <a:t>持节云中，何日遣冯唐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2"/>
          <p:cNvSpPr/>
          <p:nvPr/>
        </p:nvSpPr>
        <p:spPr>
          <a:xfrm>
            <a:off x="1847880" y="40464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 本词引用了哪些典故？分别表达了作者什么情感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3"/>
          <p:cNvSpPr/>
          <p:nvPr/>
        </p:nvSpPr>
        <p:spPr>
          <a:xfrm>
            <a:off x="1847880" y="1914480"/>
            <a:ext cx="4572000" cy="46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亲射虎，看孙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持节云中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何日遣冯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会挽雕弓如满月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西北望，射天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4"/>
          <p:cNvSpPr/>
          <p:nvPr/>
        </p:nvSpPr>
        <p:spPr>
          <a:xfrm>
            <a:off x="3216240" y="1700280"/>
            <a:ext cx="923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自喻孙权，虽年纪已老，                     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华文琥珀"/>
                <a:ea typeface="华文琥珀"/>
              </a:rPr>
              <a:t>仍有少年狂气，意气奋发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。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5"/>
          <p:cNvSpPr/>
          <p:nvPr/>
        </p:nvSpPr>
        <p:spPr>
          <a:xfrm>
            <a:off x="5087880" y="3213000"/>
            <a:ext cx="51814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以魏尚自喻，</a:t>
            </a:r>
            <a:r>
              <a:rPr b="1" lang="zh-CN" sz="3200" spc="-1" strike="noStrike">
                <a:solidFill>
                  <a:srgbClr val="ff0000"/>
                </a:solidFill>
                <a:latin typeface="华文琥珀"/>
                <a:ea typeface="华文琥珀"/>
              </a:rPr>
              <a:t>希望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朝廷能像派冯唐赦魏尚那样</a:t>
            </a:r>
            <a:r>
              <a:rPr b="1" lang="zh-CN" sz="3200" spc="-1" strike="noStrike">
                <a:solidFill>
                  <a:srgbClr val="ff0000"/>
                </a:solidFill>
                <a:latin typeface="华文琥珀"/>
                <a:ea typeface="华文琥珀"/>
              </a:rPr>
              <a:t>重用自己</a:t>
            </a:r>
            <a:r>
              <a:rPr b="1" lang="zh-CN" sz="4000" spc="-1" strike="noStrike">
                <a:solidFill>
                  <a:srgbClr val="ff0000"/>
                </a:solidFill>
                <a:latin typeface="华文琥珀"/>
                <a:ea typeface="华文琥珀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6"/>
          <p:cNvSpPr/>
          <p:nvPr/>
        </p:nvSpPr>
        <p:spPr>
          <a:xfrm>
            <a:off x="5303880" y="479736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表达了自己</a:t>
            </a:r>
            <a:r>
              <a:rPr b="1" lang="zh-CN" sz="3200" spc="-1" strike="noStrike">
                <a:solidFill>
                  <a:srgbClr val="ff0000"/>
                </a:solidFill>
                <a:latin typeface="华文琥珀"/>
                <a:ea typeface="华文琥珀"/>
              </a:rPr>
              <a:t>要报效国家、抵御入侵者、建功立业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的</a:t>
            </a:r>
            <a:r>
              <a:rPr b="1" lang="zh-CN" sz="3200" spc="-1" strike="noStrike">
                <a:solidFill>
                  <a:srgbClr val="ff0000"/>
                </a:solidFill>
                <a:latin typeface="华文琥珀"/>
                <a:ea typeface="华文琥珀"/>
              </a:rPr>
              <a:t>决心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。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2"/>
          <p:cNvSpPr/>
          <p:nvPr/>
        </p:nvSpPr>
        <p:spPr>
          <a:xfrm>
            <a:off x="1523880" y="160020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新宋体"/>
              </a:rPr>
              <a:t>上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"/>
          <p:cNvSpPr/>
          <p:nvPr/>
        </p:nvSpPr>
        <p:spPr>
          <a:xfrm>
            <a:off x="2639880" y="1052640"/>
            <a:ext cx="86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Arial"/>
                <a:ea typeface="楷体_GB2312"/>
              </a:rPr>
              <a:t>叙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4"/>
          <p:cNvSpPr/>
          <p:nvPr/>
        </p:nvSpPr>
        <p:spPr>
          <a:xfrm>
            <a:off x="3287880" y="1413000"/>
            <a:ext cx="50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中宋"/>
              </a:rPr>
              <a:t>密州出猎的盛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6"/>
          <p:cNvSpPr/>
          <p:nvPr/>
        </p:nvSpPr>
        <p:spPr>
          <a:xfrm>
            <a:off x="1523880" y="414972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下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7"/>
          <p:cNvSpPr/>
          <p:nvPr/>
        </p:nvSpPr>
        <p:spPr>
          <a:xfrm>
            <a:off x="2711520" y="4267080"/>
            <a:ext cx="79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Arial"/>
                <a:ea typeface="楷体_GB2312"/>
              </a:rPr>
              <a:t>抒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8"/>
          <p:cNvSpPr/>
          <p:nvPr/>
        </p:nvSpPr>
        <p:spPr>
          <a:xfrm>
            <a:off x="3216240" y="4653000"/>
            <a:ext cx="504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建功立业的豪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0"/>
          <p:cNvSpPr/>
          <p:nvPr/>
        </p:nvSpPr>
        <p:spPr>
          <a:xfrm>
            <a:off x="4414680" y="2362320"/>
            <a:ext cx="4622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11"/>
          <p:cNvSpPr/>
          <p:nvPr/>
        </p:nvSpPr>
        <p:spPr>
          <a:xfrm>
            <a:off x="3000240" y="2852640"/>
            <a:ext cx="152640" cy="1219320"/>
          </a:xfrm>
          <a:prstGeom prst="downArrow">
            <a:avLst>
              <a:gd name="adj1" fmla="val 50000"/>
              <a:gd name="adj2" fmla="val 199705"/>
            </a:avLst>
          </a:prstGeom>
          <a:solidFill>
            <a:srgbClr val="ff0000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2"/>
          <p:cNvSpPr/>
          <p:nvPr/>
        </p:nvSpPr>
        <p:spPr>
          <a:xfrm>
            <a:off x="8226360" y="2852640"/>
            <a:ext cx="46188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13"/>
          <p:cNvSpPr/>
          <p:nvPr/>
        </p:nvSpPr>
        <p:spPr>
          <a:xfrm>
            <a:off x="8077320" y="1752480"/>
            <a:ext cx="304560" cy="3886200"/>
          </a:xfrm>
          <a:custGeom>
            <a:avLst/>
            <a:gdLst>
              <a:gd name="textAreaLeft" fmla="*/ 0 w 304560"/>
              <a:gd name="textAreaRight" fmla="*/ 109800 w 304560"/>
              <a:gd name="textAreaTop" fmla="*/ 120960 h 3886200"/>
              <a:gd name="textAreaBottom" fmla="*/ 3765240 h 388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75"/>
                  <a:pt x="10800" y="2149"/>
                </a:cubicBezTo>
                <a:lnTo>
                  <a:pt x="10800" y="8651"/>
                </a:lnTo>
                <a:cubicBezTo>
                  <a:pt x="10800" y="9726"/>
                  <a:pt x="16200" y="10800"/>
                  <a:pt x="21600" y="10800"/>
                </a:cubicBezTo>
                <a:cubicBezTo>
                  <a:pt x="16200" y="10800"/>
                  <a:pt x="10800" y="11875"/>
                  <a:pt x="10800" y="12949"/>
                </a:cubicBezTo>
                <a:lnTo>
                  <a:pt x="10800" y="19451"/>
                </a:lnTo>
                <a:cubicBezTo>
                  <a:pt x="10800" y="20526"/>
                  <a:pt x="5400" y="21600"/>
                  <a:pt x="0" y="2160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4"/>
          <p:cNvSpPr/>
          <p:nvPr/>
        </p:nvSpPr>
        <p:spPr>
          <a:xfrm flipH="1">
            <a:off x="8024400" y="685800"/>
            <a:ext cx="264924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关怀国家命运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、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报效国家的爱国精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5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WordArt 3"/>
          <p:cNvSpPr txBox="1"/>
          <p:nvPr/>
        </p:nvSpPr>
        <p:spPr>
          <a:xfrm>
            <a:off x="1774800" y="333360"/>
            <a:ext cx="3313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4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小结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2279520" y="1700280"/>
            <a:ext cx="770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这首词通过描写一次出猎的壮观场面，借历史典故抒发作者杀敌为国的雄心壮志，表达了</a:t>
            </a:r>
            <a:r>
              <a:rPr b="0" lang="zh-CN" sz="4000" spc="-1" strike="noStrike">
                <a:solidFill>
                  <a:srgbClr val="000000"/>
                </a:solidFill>
                <a:latin typeface="华文琥珀"/>
                <a:ea typeface="华文琥珀"/>
              </a:rPr>
              <a:t>为国效命的坚定决心和爱国思想</a:t>
            </a:r>
            <a:r>
              <a:rPr b="0" lang="zh-CN" sz="40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，并委婉的表达了</a:t>
            </a:r>
            <a:r>
              <a:rPr b="0" lang="zh-CN" sz="4000" spc="-1" strike="noStrike">
                <a:solidFill>
                  <a:srgbClr val="000000"/>
                </a:solidFill>
                <a:latin typeface="华文琥珀"/>
                <a:ea typeface="华文琥珀"/>
              </a:rPr>
              <a:t>期盼</a:t>
            </a:r>
            <a:r>
              <a:rPr b="0" lang="zh-CN" sz="40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得到朝廷</a:t>
            </a:r>
            <a:r>
              <a:rPr b="0" lang="zh-CN" sz="4000" spc="-1" strike="noStrike">
                <a:solidFill>
                  <a:srgbClr val="000000"/>
                </a:solidFill>
                <a:latin typeface="华文琥珀"/>
                <a:ea typeface="华文琥珀"/>
              </a:rPr>
              <a:t>重用</a:t>
            </a:r>
            <a:r>
              <a:rPr b="0" lang="zh-CN" sz="40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的</a:t>
            </a:r>
            <a:r>
              <a:rPr b="0" lang="zh-CN" sz="4000" spc="-1" strike="noStrike">
                <a:solidFill>
                  <a:srgbClr val="000000"/>
                </a:solidFill>
                <a:latin typeface="华文琥珀"/>
                <a:ea typeface="华文琥珀"/>
              </a:rPr>
              <a:t>愿望</a:t>
            </a:r>
            <a:r>
              <a:rPr b="0" lang="zh-CN" sz="40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矩形 35"/>
          <p:cNvSpPr/>
          <p:nvPr/>
        </p:nvSpPr>
        <p:spPr>
          <a:xfrm>
            <a:off x="1590840" y="4202280"/>
            <a:ext cx="9010440" cy="1441440"/>
          </a:xfrm>
          <a:prstGeom prst="rect">
            <a:avLst/>
          </a:prstGeom>
          <a:solidFill>
            <a:srgbClr val="80808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文本框 4130"/>
          <p:cNvSpPr/>
          <p:nvPr/>
        </p:nvSpPr>
        <p:spPr>
          <a:xfrm>
            <a:off x="2251080" y="4246560"/>
            <a:ext cx="769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破阵子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·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为陈同甫赋壮词以寄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直接连接符 37"/>
          <p:cNvSpPr/>
          <p:nvPr/>
        </p:nvSpPr>
        <p:spPr>
          <a:xfrm>
            <a:off x="2257560" y="5057640"/>
            <a:ext cx="76770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图片 1" descr=""/>
          <p:cNvPicPr/>
          <p:nvPr/>
        </p:nvPicPr>
        <p:blipFill>
          <a:blip r:embed="rId1"/>
          <a:stretch/>
        </p:blipFill>
        <p:spPr>
          <a:xfrm>
            <a:off x="3456000" y="392040"/>
            <a:ext cx="5278320" cy="3810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文本框 3"/>
          <p:cNvSpPr/>
          <p:nvPr/>
        </p:nvSpPr>
        <p:spPr>
          <a:xfrm>
            <a:off x="119160" y="1268280"/>
            <a:ext cx="8785080" cy="25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8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【辛弃疾】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14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07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字幼安，号稼轩，南宋豪放派词人、将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有“词中之龙”之称。与苏轼合称“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苏辛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”，与李清照并称“济南二安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词艺术风格多样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以豪放为主，风格沉雄豪迈又不乏细腻柔媚之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其词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题材广阔又善化用典故入词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抒写力图恢复国家统一的爱国热情，倾诉壮志难酬的悲愤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对当时执政者的屈辱求和颇多谴责；也有不少吟咏祖国河山的作品。现存词六百多首，有词集《稼轩长短句》等传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19"/>
          <p:cNvGrpSpPr/>
          <p:nvPr/>
        </p:nvGrpSpPr>
        <p:grpSpPr>
          <a:xfrm>
            <a:off x="1684440" y="492120"/>
            <a:ext cx="2319120" cy="700200"/>
            <a:chOff x="1684440" y="492120"/>
            <a:chExt cx="2319120" cy="700200"/>
          </a:xfrm>
        </p:grpSpPr>
        <p:pic>
          <p:nvPicPr>
            <p:cNvPr id="416" name="Picture 18" descr="未标题-1"/>
            <p:cNvPicPr/>
            <p:nvPr/>
          </p:nvPicPr>
          <p:blipFill>
            <a:blip r:embed="rId1"/>
            <a:stretch/>
          </p:blipFill>
          <p:spPr>
            <a:xfrm>
              <a:off x="1684440" y="49212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文本框 2"/>
            <p:cNvSpPr/>
            <p:nvPr/>
          </p:nvSpPr>
          <p:spPr>
            <a:xfrm>
              <a:off x="2220840" y="56844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走近作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8" name="图片 1" descr=""/>
          <p:cNvPicPr/>
          <p:nvPr/>
        </p:nvPicPr>
        <p:blipFill>
          <a:blip r:embed="rId2"/>
          <a:stretch/>
        </p:blipFill>
        <p:spPr>
          <a:xfrm>
            <a:off x="9264600" y="1773360"/>
            <a:ext cx="2633760" cy="336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2590920" y="669960"/>
            <a:ext cx="56386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如梦令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昨夜雨疏风骤，</a:t>
            </a:r>
            <a:br>
              <a:rPr sz="4000"/>
            </a:br>
            <a:r>
              <a:rPr b="1" i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浓睡不消残酒。</a:t>
            </a:r>
            <a:br>
              <a:rPr sz="4000"/>
            </a:br>
            <a:r>
              <a:rPr b="1" i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试问卷帘人，</a:t>
            </a:r>
            <a:br>
              <a:rPr sz="4000"/>
            </a:br>
            <a:r>
              <a:rPr b="1" i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却道海棠依旧。</a:t>
            </a:r>
            <a:br>
              <a:rPr sz="4000"/>
            </a:br>
            <a:r>
              <a:rPr b="1" i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知否？知否？</a:t>
            </a:r>
            <a:br>
              <a:rPr sz="4000"/>
            </a:br>
            <a:r>
              <a:rPr b="1" i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应是绿肥红瘦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3" descr="qingzhao1"/>
          <p:cNvPicPr/>
          <p:nvPr/>
        </p:nvPicPr>
        <p:blipFill>
          <a:blip r:embed="rId1"/>
          <a:stretch/>
        </p:blipFill>
        <p:spPr>
          <a:xfrm>
            <a:off x="7939080" y="304920"/>
            <a:ext cx="2728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文本框 3"/>
          <p:cNvSpPr/>
          <p:nvPr/>
        </p:nvSpPr>
        <p:spPr>
          <a:xfrm>
            <a:off x="550800" y="1525680"/>
            <a:ext cx="1094580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8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这首词是作者失意闲居信州（今江西上饶）时所作。辛弃疾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岁时，就在家乡历城（今山东济南）参加了抗金起义。起义失败后，他回到南宋，当过许多地方的长官。他安定民生，训练军队，极力主张收复中原，却遭到排斥打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后来，他长期不得任用，闲居近二十年。公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18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，辛弃疾与陈亮在铅山瓢泉会见，即第二次“鹅湖之会”。此词当作于这次会见又分别之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19"/>
          <p:cNvGrpSpPr/>
          <p:nvPr/>
        </p:nvGrpSpPr>
        <p:grpSpPr>
          <a:xfrm>
            <a:off x="1684440" y="492120"/>
            <a:ext cx="2319120" cy="700200"/>
            <a:chOff x="1684440" y="492120"/>
            <a:chExt cx="2319120" cy="700200"/>
          </a:xfrm>
        </p:grpSpPr>
        <p:pic>
          <p:nvPicPr>
            <p:cNvPr id="421" name="Picture 18" descr="未标题-1"/>
            <p:cNvPicPr/>
            <p:nvPr/>
          </p:nvPicPr>
          <p:blipFill>
            <a:blip r:embed="rId1"/>
            <a:stretch/>
          </p:blipFill>
          <p:spPr>
            <a:xfrm>
              <a:off x="1684440" y="49212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文本框 2"/>
            <p:cNvSpPr/>
            <p:nvPr/>
          </p:nvSpPr>
          <p:spPr>
            <a:xfrm>
              <a:off x="2220840" y="56844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写作背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Group 19"/>
          <p:cNvGrpSpPr/>
          <p:nvPr/>
        </p:nvGrpSpPr>
        <p:grpSpPr>
          <a:xfrm>
            <a:off x="1684440" y="492120"/>
            <a:ext cx="2319120" cy="700200"/>
            <a:chOff x="1684440" y="492120"/>
            <a:chExt cx="2319120" cy="700200"/>
          </a:xfrm>
        </p:grpSpPr>
        <p:pic>
          <p:nvPicPr>
            <p:cNvPr id="424" name="Picture 18" descr="未标题-1"/>
            <p:cNvPicPr/>
            <p:nvPr/>
          </p:nvPicPr>
          <p:blipFill>
            <a:blip r:embed="rId1"/>
            <a:stretch/>
          </p:blipFill>
          <p:spPr>
            <a:xfrm>
              <a:off x="1684440" y="49212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文本框 2"/>
            <p:cNvSpPr/>
            <p:nvPr/>
          </p:nvSpPr>
          <p:spPr>
            <a:xfrm>
              <a:off x="2220840" y="56844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诵读课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文本框 1"/>
          <p:cNvSpPr/>
          <p:nvPr/>
        </p:nvSpPr>
        <p:spPr>
          <a:xfrm>
            <a:off x="874800" y="1301760"/>
            <a:ext cx="1044252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醉里挑灯看剑，梦回吹角连营。八百里分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麾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下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炙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，五十弦翻塞外声，沙场秋点兵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马作的卢飞快，弓如霹雳弦惊。了却君王天下事，赢得生前身后名。可怜白发生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文本框 2"/>
          <p:cNvSpPr/>
          <p:nvPr/>
        </p:nvSpPr>
        <p:spPr>
          <a:xfrm>
            <a:off x="9953280" y="915840"/>
            <a:ext cx="79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hu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3"/>
          <p:cNvSpPr/>
          <p:nvPr/>
        </p:nvSpPr>
        <p:spPr>
          <a:xfrm>
            <a:off x="348840" y="1916280"/>
            <a:ext cx="732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zhì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7"/>
          <p:cNvSpPr/>
          <p:nvPr/>
        </p:nvSpPr>
        <p:spPr>
          <a:xfrm>
            <a:off x="1441440" y="2714760"/>
            <a:ext cx="932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5"/>
          <p:cNvSpPr/>
          <p:nvPr/>
        </p:nvSpPr>
        <p:spPr>
          <a:xfrm>
            <a:off x="1133640" y="5168880"/>
            <a:ext cx="1027260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【音频】破阵子·为陈同甫赋壮词以寄之.m4a" descr=""/>
          <p:cNvPicPr/>
          <p:nvPr/>
        </p:nvPicPr>
        <p:blipFill>
          <a:blip r:embed="rId2"/>
          <a:stretch/>
        </p:blipFill>
        <p:spPr>
          <a:xfrm>
            <a:off x="11247480" y="47242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8" dur="1" fill="hold"/>
                                        <p:tgtEl>
                                          <p:spTgt spid="4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文本框 2"/>
          <p:cNvSpPr/>
          <p:nvPr/>
        </p:nvSpPr>
        <p:spPr>
          <a:xfrm>
            <a:off x="550800" y="1521000"/>
            <a:ext cx="11306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全词从意义上看，前九句是一段，十分生动地描绘出一位披肝沥胆，忠一不二，勇往直前的将军的形象，从而表现了词人的远大抱负。末一句是一段，以沉痛的慨叹，抒发了“壮志难酬”的悲愤。壮和悲，理想和现实，形成强烈的反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从这反差中，可以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宋体"/>
                <a:ea typeface="宋体"/>
              </a:rPr>
              <a:t>想到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当时南宋朝廷的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宋体"/>
                <a:ea typeface="宋体"/>
              </a:rPr>
              <a:t>腐败无能，想到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人民的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宋体"/>
                <a:ea typeface="宋体"/>
              </a:rPr>
              <a:t>水深火热，想到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所有爱国志士报国无门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宋体"/>
                <a:ea typeface="宋体"/>
              </a:rPr>
              <a:t>的苦闷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Group 19"/>
          <p:cNvGrpSpPr/>
          <p:nvPr/>
        </p:nvGrpSpPr>
        <p:grpSpPr>
          <a:xfrm>
            <a:off x="1684440" y="492120"/>
            <a:ext cx="2319120" cy="700200"/>
            <a:chOff x="1684440" y="492120"/>
            <a:chExt cx="2319120" cy="700200"/>
          </a:xfrm>
        </p:grpSpPr>
        <p:pic>
          <p:nvPicPr>
            <p:cNvPr id="434" name="Picture 18" descr="未标题-1"/>
            <p:cNvPicPr/>
            <p:nvPr/>
          </p:nvPicPr>
          <p:blipFill>
            <a:blip r:embed="rId1"/>
            <a:stretch/>
          </p:blipFill>
          <p:spPr>
            <a:xfrm>
              <a:off x="1684440" y="49212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文本框 2"/>
            <p:cNvSpPr/>
            <p:nvPr/>
          </p:nvSpPr>
          <p:spPr>
            <a:xfrm>
              <a:off x="2220840" y="56844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课文主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8" dur="8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9" dur="8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0" dur="8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4602240" y="457200"/>
            <a:ext cx="736128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宋体"/>
                <a:ea typeface="宋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秋瑾，原名秋闺瑾，字璿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xuán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卿（璇卿），号竞雄，别号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鉴湖女侠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祖籍浙江山阴。（今绍兴市），出生于福建厦门。蔑视封建礼法，提倡男女平等，常以花木兰，秦良玉自喻。性豪侠，习文练武，喜男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曾自费东渡日本留学。积极投身革命，先后参加过三合会、光复会、同盟会等革命组织，联络会党计划响应萍浏醴起义未果。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907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，她与徐锡麟等组织光复军，拟于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在浙江、安徽同时起义，事泄被捕。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从容就义于绍兴轩亭口，时年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岁。丈夫是双峰县荷叶乡神冲富绅之子王廷钧，字子芳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宋体"/>
                <a:ea typeface="宋体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WordArt 11"/>
          <p:cNvSpPr txBox="1"/>
          <p:nvPr/>
        </p:nvSpPr>
        <p:spPr>
          <a:xfrm>
            <a:off x="1219320" y="285840"/>
            <a:ext cx="2400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1" strike="noStrike">
                <a:ln w="12600">
                  <a:solidFill>
                    <a:srgbClr val="ffff00"/>
                  </a:solidFill>
                  <a:round/>
                </a:ln>
                <a:solidFill>
                  <a:srgbClr val="80008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缅怀秋瑾</a:t>
            </a:r>
            <a:endParaRPr b="1" lang="en-US" sz="2700" spc="1" strike="noStrike">
              <a:ln w="12600">
                <a:solidFill>
                  <a:srgbClr val="ffff00"/>
                </a:solidFill>
                <a:round/>
              </a:ln>
              <a:solidFill>
                <a:srgbClr val="80008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8" name="Text Box 12"/>
          <p:cNvSpPr/>
          <p:nvPr/>
        </p:nvSpPr>
        <p:spPr>
          <a:xfrm>
            <a:off x="2830680" y="6243480"/>
            <a:ext cx="177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(1877-190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14" descr="http://img.itc.cn/photo/oritcQuvPn2"/>
          <p:cNvPicPr/>
          <p:nvPr/>
        </p:nvPicPr>
        <p:blipFill>
          <a:blip r:embed="rId1"/>
          <a:stretch/>
        </p:blipFill>
        <p:spPr>
          <a:xfrm>
            <a:off x="685800" y="1447920"/>
            <a:ext cx="388620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1981080" y="685440"/>
            <a:ext cx="33530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5943600" y="914400"/>
            <a:ext cx="4495680" cy="5943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秋瑾又是中国近代文学史上杰出的女才子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其诗词既有女子的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柔婉细腻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”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又有男儿的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豪迈劲爽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”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刚柔相济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阴阳相和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体现了一种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中和之美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和独具魅力的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女性情怀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4" descr="fb763e95ff640262d1135ef2"/>
          <p:cNvPicPr/>
          <p:nvPr/>
        </p:nvPicPr>
        <p:blipFill>
          <a:blip r:embed="rId1"/>
          <a:stretch/>
        </p:blipFill>
        <p:spPr>
          <a:xfrm>
            <a:off x="1828800" y="533520"/>
            <a:ext cx="3257640" cy="45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写作背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0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春，王廷均用钱捐得户部主事官职，秋瑾随夫入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值八国联军入侵后不久，她目睹民族危机的深重和清政府的腐败，决心献身救国事业，而其夫无心国事。中秋节，秋瑾与丈夫王廷均发生冲突，离家出走，寓居北京阜城门外泰顺客栈，后由吴芝瑛出面调解，而秋瑾下决心冲破家庭牢笼，投身革命。不久即东渡日本留学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这首词是她在中秋节的述怀之作，反映了她在封建婚姻家庭和旧礼教的束缚中，走向革命道路前夕的苦闷彷徨和雄心壮志的开阔胸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61920" y="-554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240" y="17640"/>
            <a:ext cx="12191760" cy="60213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满江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                                            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秋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小住</a:t>
            </a:r>
            <a:r>
              <a:rPr b="1" lang="zh-CN" sz="3600" spc="-1" strike="noStrike" u="sng">
                <a:solidFill>
                  <a:srgbClr val="000066"/>
                </a:solidFill>
                <a:uFillTx/>
                <a:latin typeface="Arial"/>
              </a:rPr>
              <a:t>京华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①，早又是，中秋佳节。为篱下，黄花开遍，秋容如拭。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四面歌残终破楚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②，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八年风味独思浙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③。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将侬，强派作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蛾眉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④，殊未屑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　　身不得，男儿列；心却比，男儿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烈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⑤！算平生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肝胆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⑥，因人常热，俗夫胸襟谁识我？英雄末路当磨折。莽红尘，何处觅知音，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青衫湿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⑦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文本框 1"/>
          <p:cNvSpPr/>
          <p:nvPr/>
        </p:nvSpPr>
        <p:spPr>
          <a:xfrm>
            <a:off x="2676600" y="1009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京城之美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思想气泡: 云 4"/>
          <p:cNvSpPr/>
          <p:nvPr/>
        </p:nvSpPr>
        <p:spPr>
          <a:xfrm>
            <a:off x="8472600" y="115920"/>
            <a:ext cx="3446280" cy="1353960"/>
          </a:xfrm>
          <a:prstGeom prst="cloudCallout">
            <a:avLst>
              <a:gd name="adj1" fmla="val -68620"/>
              <a:gd name="adj2" fmla="val 86851"/>
            </a:avLst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用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史记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·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项羽本纪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中汉军破楚的故事，来比喻说明自己终于冲破家庭牢笼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标注: 弯曲线形(无边框) 7"/>
          <p:cNvSpPr/>
          <p:nvPr/>
        </p:nvSpPr>
        <p:spPr>
          <a:xfrm>
            <a:off x="6705720" y="2635200"/>
            <a:ext cx="4268520" cy="1015920"/>
          </a:xfr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应为“独思浙八年风味”的倒装。指作者在浙江时过的貌似贵妇的生活，实则处于被奴役的地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标注: 线形(无边框) 8"/>
          <p:cNvSpPr/>
          <p:nvPr/>
        </p:nvSpPr>
        <p:spPr>
          <a:xfrm>
            <a:off x="2514600" y="2922480"/>
            <a:ext cx="279072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12462" y="32488"/>
                </a:moveTo>
                <a:lnTo>
                  <a:pt x="-901" y="8144"/>
                </a:lnTo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漂亮的女人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美女。指作者当时的贵妇人身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标注: 线形 9"/>
          <p:cNvSpPr/>
          <p:nvPr/>
        </p:nvSpPr>
        <p:spPr>
          <a:xfrm>
            <a:off x="8040600" y="5537160"/>
            <a:ext cx="1217880" cy="612720"/>
          </a:xfrm>
          <a:prstGeom prst="borderCallout1">
            <a:avLst>
              <a:gd name="adj1" fmla="val 18750"/>
              <a:gd name="adj2" fmla="val -8333"/>
              <a:gd name="adj3" fmla="val -160222"/>
              <a:gd name="adj4" fmla="val 26467"/>
            </a:avLst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刚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标注: 弯曲线形 10"/>
          <p:cNvSpPr/>
          <p:nvPr/>
        </p:nvSpPr>
        <p:spPr>
          <a:xfrm>
            <a:off x="10372680" y="5969160"/>
            <a:ext cx="2209680" cy="612720"/>
          </a:xfrm>
          <a:prstGeom prst="borderCallout2">
            <a:avLst>
              <a:gd name="adj1" fmla="val 18750"/>
              <a:gd name="adj2" fmla="val -8333"/>
              <a:gd name="adj3" fmla="val 18750"/>
              <a:gd name="adj4" fmla="val -16666"/>
              <a:gd name="adj5" fmla="val -157578"/>
              <a:gd name="adj6" fmla="val 26569"/>
            </a:avLst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真诚的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标注: 上箭头 11"/>
          <p:cNvSpPr/>
          <p:nvPr/>
        </p:nvSpPr>
        <p:spPr>
          <a:xfrm>
            <a:off x="2639880" y="5708520"/>
            <a:ext cx="4572000" cy="1131840"/>
          </a:xfrm>
          <a:prstGeom prst="upArrowCallout">
            <a:avLst>
              <a:gd name="adj1" fmla="val 25024"/>
              <a:gd name="adj2" fmla="val 25003"/>
              <a:gd name="adj3" fmla="val 25000"/>
              <a:gd name="adj4" fmla="val 70041"/>
            </a:avLst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唐白居易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琵琶行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中有“江州司马青衫湿”句，指眼泪打湿了衣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【音频】满江红.m4a" descr=""/>
          <p:cNvPicPr/>
          <p:nvPr/>
        </p:nvPicPr>
        <p:blipFill>
          <a:blip r:embed="rId1"/>
          <a:stretch/>
        </p:blipFill>
        <p:spPr>
          <a:xfrm>
            <a:off x="11309400" y="361944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0" dur="1" fill="hold"/>
                                        <p:tgtEl>
                                          <p:spTgt spid="4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翻译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380880" y="609480"/>
            <a:ext cx="114300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我在京城小住时日，转眼间就又到了中秋佳节。篱笆下面的菊花都已盛开，秋色明净，就像刚刚擦洗过一般。四面的歌声渐歇，我也终如汉之破楚，突破了家庭的牢笼，如今一个人思量着在浙江时那八年的生活况味。他们苦苦地想让我做一个贵妇人，其实，我是多么的不屑啊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　　今生我虽然不能身为男子，加入他们的行列。但是我的心，要比男子的心还要刚烈。想想平日，我的一颗心，常为别人而热。那些俗人，心胸狭窄，怎么能懂我呢？英雄在无路可走的时候，难免要经受磨难挫折。在这莽莽红尘之中，哪里才能觅到知音呢？眼泪打湿了我的衣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523520" y="0"/>
            <a:ext cx="3124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赏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837720" y="1676520"/>
            <a:ext cx="10896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“为篱下，黄花开遍”，是化用陶渊明“采菊东篱下”和李清照“人比黄花瘦”的诗句，写秋色，但主要是用来说明冲破家庭牢笼后</a:t>
            </a:r>
            <a:r>
              <a:rPr b="1" lang="zh-CN" sz="3200" spc="-1" strike="noStrike">
                <a:solidFill>
                  <a:srgbClr val="ff0000"/>
                </a:solidFill>
                <a:latin typeface="华文琥珀"/>
                <a:ea typeface="华文琥珀"/>
              </a:rPr>
              <a:t>兴奋而又愁苦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的心理。把陶渊明和李清照表现不同思想的诗句杂用在一起，来表达自己初离家庭时的</a:t>
            </a:r>
            <a:r>
              <a:rPr b="1" lang="zh-CN" sz="3200" spc="-1" strike="noStrike">
                <a:solidFill>
                  <a:srgbClr val="ff0000"/>
                </a:solidFill>
                <a:latin typeface="华文琥珀"/>
                <a:ea typeface="华文琥珀"/>
              </a:rPr>
              <a:t>矛盾心情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，别具匠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文本框 1"/>
          <p:cNvSpPr/>
          <p:nvPr/>
        </p:nvSpPr>
        <p:spPr>
          <a:xfrm>
            <a:off x="3297600" y="906480"/>
            <a:ext cx="342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1.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为篱下，黄花开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赏析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身不得，男儿列；心却比，男儿烈！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1828800" y="2133720"/>
            <a:ext cx="9524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“身不得，男儿列；心却比，男儿烈！”这四句深入浅出，是鉴湖女侠的自我写照，一幅巾帼英雄的形象，生动地在我们眼前展开，作者运用“列与烈”两字谐音和意义不同的显着变化，来表达她的</a:t>
            </a:r>
            <a:r>
              <a:rPr b="1" lang="zh-CN" sz="3200" spc="-1" strike="noStrike">
                <a:solidFill>
                  <a:srgbClr val="ff0000"/>
                </a:solidFill>
                <a:latin typeface="华文琥珀"/>
                <a:ea typeface="华文琥珀"/>
              </a:rPr>
              <a:t>抱负、志向和思想感情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，正是上接“苦将侬，强派作蛾眉，殊未屑！”这两句进一步的思想发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500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迷彩"/>
          <p:cNvPicPr/>
          <p:nvPr/>
        </p:nvPicPr>
        <p:blipFill>
          <a:blip r:embed="rId1"/>
          <a:stretch/>
        </p:blipFill>
        <p:spPr>
          <a:xfrm>
            <a:off x="1523880" y="0"/>
            <a:ext cx="8839440" cy="685800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3"/>
          <p:cNvSpPr/>
          <p:nvPr/>
        </p:nvSpPr>
        <p:spPr>
          <a:xfrm>
            <a:off x="3657600" y="457200"/>
            <a:ext cx="388620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丑奴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书博山道中壁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1523880" y="2438280"/>
            <a:ext cx="10134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少年不识愁滋味，爱上层楼。爱上层楼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为赋新词强说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而今识尽愁滋味，欲说还休。欲说还休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却道天凉好个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1523880" y="426708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1523880" y="426708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WordArt 7"/>
          <p:cNvSpPr txBox="1"/>
          <p:nvPr/>
        </p:nvSpPr>
        <p:spPr>
          <a:xfrm>
            <a:off x="7889760" y="44280"/>
            <a:ext cx="2743200" cy="195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延伸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" dur="1" fill="hold">
                                    <p:stCondLst>
                                      <p:cond evt="end">
                                        <p:tn val="5"/>
                                      </p:cond>
                                    </p:stCondLst>
                                  </p:cTn>
                                  <p:tgtEl>
                                    <p:spTgt spid="2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主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4"/>
          <p:cNvSpPr/>
          <p:nvPr/>
        </p:nvSpPr>
        <p:spPr>
          <a:xfrm>
            <a:off x="3254400" y="1859040"/>
            <a:ext cx="5667120" cy="3141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本词通过生动流利的语言，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抒发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</a:rPr>
              <a:t>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作者对寄生无聊生活的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厌倦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，和对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出封建束缚，为祖国的前途命运而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斗的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强烈向往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，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表达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作者匡扶天下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救民水火的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凌云壮志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。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6881760" y="928440"/>
            <a:ext cx="4114800" cy="40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十余次的迁坟过程中，秋瑾的好友吴芝瑛、徐自华费劲了心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终于在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8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月，将秋瑾遗骸葬于杭州西泠桥畔，修了墓地，同时建了一座纪念亭，命名为风雨亭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4" descr="qiujin003"/>
          <p:cNvPicPr/>
          <p:nvPr/>
        </p:nvPicPr>
        <p:blipFill>
          <a:blip r:embed="rId1"/>
          <a:stretch/>
        </p:blipFill>
        <p:spPr>
          <a:xfrm>
            <a:off x="1676520" y="838080"/>
            <a:ext cx="3657600" cy="3938760"/>
          </a:xfrm>
          <a:prstGeom prst="rect">
            <a:avLst/>
          </a:prstGeom>
          <a:ln w="0">
            <a:noFill/>
          </a:ln>
        </p:spPr>
      </p:pic>
      <p:sp>
        <p:nvSpPr>
          <p:cNvPr id="467" name="Text Box 5"/>
          <p:cNvSpPr/>
          <p:nvPr/>
        </p:nvSpPr>
        <p:spPr>
          <a:xfrm>
            <a:off x="1828800" y="4724280"/>
            <a:ext cx="457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8"/>
          <p:cNvSpPr/>
          <p:nvPr/>
        </p:nvSpPr>
        <p:spPr>
          <a:xfrm>
            <a:off x="1523880" y="53341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古今中外名人迁墓屡有，然如秋瑾那样迁移十次以上的，实属罕见，名副其实迭尽风雨沧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9"/>
          <p:cNvSpPr/>
          <p:nvPr/>
        </p:nvSpPr>
        <p:spPr>
          <a:xfrm>
            <a:off x="2286000" y="487692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风雨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dur="indefinite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Text Box 2"/>
          <p:cNvSpPr/>
          <p:nvPr/>
        </p:nvSpPr>
        <p:spPr>
          <a:xfrm>
            <a:off x="1600200" y="-152280"/>
            <a:ext cx="950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《渔家傲   秋思》根据提示默写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3"/>
          <p:cNvSpPr/>
          <p:nvPr/>
        </p:nvSpPr>
        <p:spPr>
          <a:xfrm>
            <a:off x="1523880" y="60948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黑体"/>
                <a:ea typeface="黑体"/>
              </a:rPr>
              <a:t>1.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点明地域和季节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的句子是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4"/>
          <p:cNvSpPr/>
          <p:nvPr/>
        </p:nvSpPr>
        <p:spPr>
          <a:xfrm>
            <a:off x="1752480" y="126360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塞下秋来风景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5"/>
          <p:cNvSpPr/>
          <p:nvPr/>
        </p:nvSpPr>
        <p:spPr>
          <a:xfrm>
            <a:off x="1371600" y="1905120"/>
            <a:ext cx="954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黑体"/>
                <a:ea typeface="黑体"/>
              </a:rPr>
              <a:t>2.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写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边塞天气渐寒，北雁南飞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的句子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6"/>
          <p:cNvSpPr/>
          <p:nvPr/>
        </p:nvSpPr>
        <p:spPr>
          <a:xfrm>
            <a:off x="1905120" y="27432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衡阳雁去无留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7"/>
          <p:cNvSpPr/>
          <p:nvPr/>
        </p:nvSpPr>
        <p:spPr>
          <a:xfrm>
            <a:off x="1447920" y="3430440"/>
            <a:ext cx="9761400" cy="15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黑体"/>
                <a:ea typeface="黑体"/>
              </a:rPr>
              <a:t>3.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边地战事吃紧，戒备森然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的句子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由视觉的景物描写勾勒出边塞的悲凉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的句子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8"/>
          <p:cNvSpPr/>
          <p:nvPr/>
        </p:nvSpPr>
        <p:spPr>
          <a:xfrm>
            <a:off x="1919160" y="494172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嶂里，长烟落日孤城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 Box 2"/>
          <p:cNvSpPr/>
          <p:nvPr/>
        </p:nvSpPr>
        <p:spPr>
          <a:xfrm>
            <a:off x="1523880" y="152280"/>
            <a:ext cx="8915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黑体"/>
                <a:ea typeface="黑体"/>
              </a:rPr>
              <a:t>4.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表现战士们思念家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乡又渴望建功立业的矛盾心情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的句子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3"/>
          <p:cNvSpPr/>
          <p:nvPr/>
        </p:nvSpPr>
        <p:spPr>
          <a:xfrm>
            <a:off x="1703520" y="155736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浊酒一杯家万里，燕然未勒归无计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4"/>
          <p:cNvSpPr/>
          <p:nvPr/>
        </p:nvSpPr>
        <p:spPr>
          <a:xfrm>
            <a:off x="1600200" y="259092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黑体"/>
                <a:ea typeface="黑体"/>
              </a:rPr>
              <a:t>5.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夜寒霜重，笛声凄然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的句子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5"/>
          <p:cNvSpPr/>
          <p:nvPr/>
        </p:nvSpPr>
        <p:spPr>
          <a:xfrm>
            <a:off x="1847880" y="335772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羌管悠悠霜满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6"/>
          <p:cNvSpPr/>
          <p:nvPr/>
        </p:nvSpPr>
        <p:spPr>
          <a:xfrm>
            <a:off x="1600200" y="4114800"/>
            <a:ext cx="8915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黑体"/>
                <a:ea typeface="黑体"/>
              </a:rPr>
              <a:t>6.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以互文的形式写出将士有家难回，功业难成，哀伤流泪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的句子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7"/>
          <p:cNvSpPr/>
          <p:nvPr/>
        </p:nvSpPr>
        <p:spPr>
          <a:xfrm>
            <a:off x="1676520" y="5791320"/>
            <a:ext cx="7391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不寐，将军白发征夫泪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20091203145009147"/>
          <p:cNvPicPr/>
          <p:nvPr/>
        </p:nvPicPr>
        <p:blipFill>
          <a:blip r:embed="rId1"/>
          <a:stretch/>
        </p:blipFill>
        <p:spPr>
          <a:xfrm>
            <a:off x="1523880" y="0"/>
            <a:ext cx="4140360" cy="4869000"/>
          </a:xfrm>
          <a:prstGeom prst="rect">
            <a:avLst/>
          </a:prstGeom>
          <a:ln w="0">
            <a:noFill/>
          </a:ln>
        </p:spPr>
      </p:pic>
      <p:sp>
        <p:nvSpPr>
          <p:cNvPr id="484" name="Rectangle 6"/>
          <p:cNvSpPr/>
          <p:nvPr/>
        </p:nvSpPr>
        <p:spPr>
          <a:xfrm>
            <a:off x="5880240" y="932040"/>
            <a:ext cx="59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我慢慢地、仔细地擦着我的将军刀，我不知道这是不是我最后一次擦拭。寒冷的月光照在刀面上，映出了白发苍苍的老者。这还是那个纵横驰骋于沙场的将军么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7"/>
          <p:cNvSpPr/>
          <p:nvPr/>
        </p:nvSpPr>
        <p:spPr>
          <a:xfrm>
            <a:off x="2667960" y="5056200"/>
            <a:ext cx="6855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我老了，是真的老了，须如雪、鬓如霜。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我老了，是真的老了，我已无法再驰骋疆场！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提刀，我感到自己的手臂，有明显的颤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8"/>
          <p:cNvSpPr/>
          <p:nvPr/>
        </p:nvSpPr>
        <p:spPr>
          <a:xfrm>
            <a:off x="5591160" y="0"/>
            <a:ext cx="50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与你分享：一段心理描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5" descr="5cde544eb31fdb11b3de058d"/>
          <p:cNvPicPr/>
          <p:nvPr/>
        </p:nvPicPr>
        <p:blipFill>
          <a:blip r:embed="rId1"/>
          <a:srcRect l="4249" t="16479" r="4304" b="4910"/>
          <a:stretch/>
        </p:blipFill>
        <p:spPr>
          <a:xfrm>
            <a:off x="1523880" y="0"/>
            <a:ext cx="9144000" cy="4437000"/>
          </a:xfrm>
          <a:prstGeom prst="rect">
            <a:avLst/>
          </a:prstGeom>
          <a:ln w="0">
            <a:noFill/>
          </a:ln>
        </p:spPr>
      </p:pic>
      <p:sp>
        <p:nvSpPr>
          <p:cNvPr id="488" name="Rectangle 6"/>
          <p:cNvSpPr/>
          <p:nvPr/>
        </p:nvSpPr>
        <p:spPr>
          <a:xfrm>
            <a:off x="479520" y="4524480"/>
            <a:ext cx="101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远处传来凄凉哀婉的羌笛声，那是一支家乡的小曲。原本快乐的曲调此刻却无比惆怅。边关冷月寒，辗转入眠难。举杯饮浊酒，思乡人未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Picture 5" descr="点击图片翻页">
            <a:hlinkClick r:id="rId1"/>
          </p:cNvPr>
          <p:cNvPicPr/>
          <p:nvPr/>
        </p:nvPicPr>
        <p:blipFill>
          <a:blip r:embed="rId2"/>
          <a:srcRect l="0" t="0" r="0" b="6318"/>
          <a:stretch/>
        </p:blipFill>
        <p:spPr>
          <a:xfrm>
            <a:off x="1523880" y="0"/>
            <a:ext cx="5867640" cy="6858000"/>
          </a:xfrm>
          <a:prstGeom prst="rect">
            <a:avLst/>
          </a:prstGeom>
          <a:ln w="0">
            <a:noFill/>
          </a:ln>
        </p:spPr>
      </p:pic>
      <p:sp>
        <p:nvSpPr>
          <p:cNvPr id="490" name="Rectangle 6"/>
          <p:cNvSpPr/>
          <p:nvPr/>
        </p:nvSpPr>
        <p:spPr>
          <a:xfrm>
            <a:off x="7391520" y="260280"/>
            <a:ext cx="327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有多少年轻的年老的生命就这样在无休止的厮杀中默默流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也许留下过一言半语，但是这些话语顷刻间被战火化为灰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2" descr="20060429105433758"/>
          <p:cNvPicPr/>
          <p:nvPr/>
        </p:nvPicPr>
        <p:blipFill>
          <a:blip r:embed="rId1"/>
          <a:stretch/>
        </p:blipFill>
        <p:spPr>
          <a:xfrm>
            <a:off x="1523880" y="0"/>
            <a:ext cx="10333080" cy="6858000"/>
          </a:xfrm>
          <a:prstGeom prst="rect">
            <a:avLst/>
          </a:prstGeom>
          <a:ln w="0">
            <a:noFill/>
          </a:ln>
        </p:spPr>
      </p:pic>
      <p:sp>
        <p:nvSpPr>
          <p:cNvPr id="492" name="Rectangle 3"/>
          <p:cNvSpPr/>
          <p:nvPr/>
        </p:nvSpPr>
        <p:spPr>
          <a:xfrm>
            <a:off x="1523880" y="3718080"/>
            <a:ext cx="975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倒下的尸首与战火焚后的残垣在风中化为沙粒。家中的妻儿老小在无尽的等待与不安中早已将泪眼熬成了干枯的井，而归家的日子却因燕然未勒而遥遥无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5" descr="20081027_09aeed6a725b81f0b1e4WqhZbCjfmUhB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5300640"/>
          </a:xfrm>
          <a:prstGeom prst="rect">
            <a:avLst/>
          </a:prstGeom>
          <a:ln w="0">
            <a:noFill/>
          </a:ln>
        </p:spPr>
      </p:pic>
      <p:sp>
        <p:nvSpPr>
          <p:cNvPr id="494" name="Rectangle 6"/>
          <p:cNvSpPr/>
          <p:nvPr/>
        </p:nvSpPr>
        <p:spPr>
          <a:xfrm>
            <a:off x="1523880" y="540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风起，抬头远眺，天边有一片绯红，仿佛是将士的鲜血。我知道，新的一天又开始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 Box 2"/>
          <p:cNvSpPr/>
          <p:nvPr/>
        </p:nvSpPr>
        <p:spPr>
          <a:xfrm>
            <a:off x="1847880" y="404640"/>
            <a:ext cx="8820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扩写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千障里，长烟落日孤城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3"/>
          <p:cNvSpPr/>
          <p:nvPr/>
        </p:nvSpPr>
        <p:spPr>
          <a:xfrm>
            <a:off x="2135160" y="3357720"/>
            <a:ext cx="7993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要求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描写成一幅苍茫空远、辽阔孤寂的塞外落日孤城图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4"/>
          <p:cNvSpPr/>
          <p:nvPr/>
        </p:nvSpPr>
        <p:spPr>
          <a:xfrm>
            <a:off x="2135160" y="2592360"/>
            <a:ext cx="260280" cy="520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5"/>
          <p:cNvSpPr/>
          <p:nvPr/>
        </p:nvSpPr>
        <p:spPr>
          <a:xfrm>
            <a:off x="6815160" y="2521080"/>
            <a:ext cx="260280" cy="520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6"/>
          <p:cNvSpPr/>
          <p:nvPr/>
        </p:nvSpPr>
        <p:spPr>
          <a:xfrm>
            <a:off x="8399520" y="2521080"/>
            <a:ext cx="260280" cy="520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7"/>
          <p:cNvSpPr/>
          <p:nvPr/>
        </p:nvSpPr>
        <p:spPr>
          <a:xfrm>
            <a:off x="9910800" y="2521080"/>
            <a:ext cx="260280" cy="520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75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75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18" dur="1" fill="hold"/>
                                  <p:tgtEl>
                                    <p:spTgt spid="49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AutoShape 2"/>
          <p:cNvSpPr/>
          <p:nvPr/>
        </p:nvSpPr>
        <p:spPr>
          <a:xfrm>
            <a:off x="4343400" y="2895480"/>
            <a:ext cx="1752480" cy="914400"/>
          </a:xfrm>
          <a:custGeom>
            <a:avLst/>
            <a:gdLst>
              <a:gd name="textAreaLeft" fmla="*/ 218880 w 1752480"/>
              <a:gd name="textAreaRight" fmla="*/ 1533600 w 175248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1" y="5400"/>
                </a:lnTo>
                <a:lnTo>
                  <a:pt x="16201" y="0"/>
                </a:lnTo>
                <a:lnTo>
                  <a:pt x="21600" y="10800"/>
                </a:lnTo>
                <a:lnTo>
                  <a:pt x="16201" y="21600"/>
                </a:lnTo>
                <a:lnTo>
                  <a:pt x="16201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6248520" y="1905120"/>
            <a:ext cx="3124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婉约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WordArt 4"/>
          <p:cNvSpPr txBox="1"/>
          <p:nvPr/>
        </p:nvSpPr>
        <p:spPr>
          <a:xfrm>
            <a:off x="2057400" y="2133720"/>
            <a:ext cx="2133720" cy="28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两大流派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6305400" y="3809880"/>
            <a:ext cx="274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豪放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6"/>
          <p:cNvSpPr/>
          <p:nvPr/>
        </p:nvSpPr>
        <p:spPr>
          <a:xfrm>
            <a:off x="6095880" y="2438280"/>
            <a:ext cx="304920" cy="1828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2"/>
          <p:cNvSpPr/>
          <p:nvPr/>
        </p:nvSpPr>
        <p:spPr>
          <a:xfrm>
            <a:off x="2505240" y="2133720"/>
            <a:ext cx="7407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峰峦连绵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,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暮霭四起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,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落日低垂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,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边塞的孤城在黄昏中闭上城门。（描写了一幅苍茫空远、辽阔孤寂的塞外落日孤城图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WordArt 3"/>
          <p:cNvSpPr txBox="1"/>
          <p:nvPr/>
        </p:nvSpPr>
        <p:spPr>
          <a:xfrm>
            <a:off x="1752480" y="0"/>
            <a:ext cx="3238560" cy="217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赏析参考 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2"/>
          <p:cNvSpPr/>
          <p:nvPr/>
        </p:nvSpPr>
        <p:spPr>
          <a:xfrm>
            <a:off x="1827360" y="5684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3"/>
          <p:cNvSpPr/>
          <p:nvPr/>
        </p:nvSpPr>
        <p:spPr>
          <a:xfrm>
            <a:off x="5070240" y="281160"/>
            <a:ext cx="97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华文行楷"/>
              </a:rPr>
              <a:t>读《江城子  密州出猎》考考自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7"/>
          <p:cNvSpPr/>
          <p:nvPr/>
        </p:nvSpPr>
        <p:spPr>
          <a:xfrm>
            <a:off x="2332080" y="40244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8"/>
          <p:cNvSpPr/>
          <p:nvPr/>
        </p:nvSpPr>
        <p:spPr>
          <a:xfrm>
            <a:off x="2208240" y="1844640"/>
            <a:ext cx="88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为报倾城随太守，亲射虎，看孙郎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13" descr="Q_011"/>
          <p:cNvPicPr/>
          <p:nvPr/>
        </p:nvPicPr>
        <p:blipFill>
          <a:blip r:embed="rId1"/>
          <a:stretch/>
        </p:blipFill>
        <p:spPr>
          <a:xfrm>
            <a:off x="1523880" y="0"/>
            <a:ext cx="743040" cy="743040"/>
          </a:xfrm>
          <a:prstGeom prst="rect">
            <a:avLst/>
          </a:prstGeom>
          <a:ln w="0">
            <a:noFill/>
          </a:ln>
        </p:spPr>
      </p:pic>
      <p:sp>
        <p:nvSpPr>
          <p:cNvPr id="508" name="Rectangle 15"/>
          <p:cNvSpPr/>
          <p:nvPr/>
        </p:nvSpPr>
        <p:spPr>
          <a:xfrm>
            <a:off x="2135160" y="1197000"/>
            <a:ext cx="831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  <a:ea typeface="华文行楷"/>
              </a:rPr>
              <a:t>1.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华文行楷"/>
              </a:rPr>
              <a:t>请你在上阕中找出表现苏轼豪迈气概的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6"/>
          <p:cNvSpPr/>
          <p:nvPr/>
        </p:nvSpPr>
        <p:spPr>
          <a:xfrm>
            <a:off x="2208240" y="2349360"/>
            <a:ext cx="749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  <a:ea typeface="华文行楷"/>
              </a:rPr>
              <a:t>2.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华文行楷"/>
              </a:rPr>
              <a:t>表现太守年愈长而志弥坚的句子是哪句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17"/>
          <p:cNvSpPr/>
          <p:nvPr/>
        </p:nvSpPr>
        <p:spPr>
          <a:xfrm>
            <a:off x="2495520" y="43657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持节云中，何日遣冯唐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18"/>
          <p:cNvSpPr/>
          <p:nvPr/>
        </p:nvSpPr>
        <p:spPr>
          <a:xfrm>
            <a:off x="6197400" y="5013360"/>
            <a:ext cx="8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  <a:ea typeface="华文行楷"/>
              </a:rPr>
              <a:t>4.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华文行楷"/>
              </a:rPr>
              <a:t>找出表现作者必致强敌于死地的抱负的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9"/>
          <p:cNvSpPr/>
          <p:nvPr/>
        </p:nvSpPr>
        <p:spPr>
          <a:xfrm>
            <a:off x="2351160" y="5661000"/>
            <a:ext cx="778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会挽雕弓如满月，西北望，射天狼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20"/>
          <p:cNvSpPr/>
          <p:nvPr/>
        </p:nvSpPr>
        <p:spPr>
          <a:xfrm>
            <a:off x="2495520" y="3141720"/>
            <a:ext cx="481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鬓微霜，又何妨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21"/>
          <p:cNvSpPr/>
          <p:nvPr/>
        </p:nvSpPr>
        <p:spPr>
          <a:xfrm>
            <a:off x="2351160" y="3645000"/>
            <a:ext cx="96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  <a:ea typeface="华文行楷"/>
              </a:rPr>
              <a:t>3.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华文行楷"/>
              </a:rPr>
              <a:t>找出表现作者希望再展宏图为国立功的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4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9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4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6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5"/>
          <p:cNvSpPr/>
          <p:nvPr/>
        </p:nvSpPr>
        <p:spPr>
          <a:xfrm>
            <a:off x="1995480" y="747720"/>
            <a:ext cx="8381880" cy="28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方正启体简体"/>
                <a:ea typeface="方正启体简体"/>
              </a:rPr>
              <a:t>江城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（乙卯正月二十日夜记梦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十年生死两茫茫。不思量，自难忘。千里孤坟，无处话凄凉。纵使相逢应不识，尘满面，鬓如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夜来幽梦忽还乡，小轩窗，正梳妆。相顾无言，惟有泪千行。料得年年肠断处：明月夜，短松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方正启体简体"/>
                <a:ea typeface="方正启体简体"/>
              </a:rPr>
              <a:t>题记中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方正启体简体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方正启体简体"/>
                <a:ea typeface="方正启体简体"/>
              </a:rPr>
              <a:t>乙卯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方正启体简体"/>
              </a:rPr>
              <a:t>”</a:t>
            </a:r>
            <a:r>
              <a:rPr b="1" lang="zh-CN" sz="2400" spc="-1" strike="noStrike">
                <a:solidFill>
                  <a:srgbClr val="0000ff"/>
                </a:solidFill>
                <a:latin typeface="方正启体简体"/>
                <a:ea typeface="方正启体简体"/>
              </a:rPr>
              <a:t>年指的是宋神宗熙宁八年（</a:t>
            </a:r>
            <a:r>
              <a:rPr b="1" lang="en-US" sz="2400" spc="-1" strike="noStrike">
                <a:solidFill>
                  <a:srgbClr val="0000ff"/>
                </a:solidFill>
                <a:latin typeface="方正启体简体"/>
                <a:ea typeface="方正启体简体"/>
              </a:rPr>
              <a:t>1075</a:t>
            </a:r>
            <a:r>
              <a:rPr b="1" lang="zh-CN" sz="2400" spc="-1" strike="noStrike">
                <a:solidFill>
                  <a:srgbClr val="0000ff"/>
                </a:solidFill>
                <a:latin typeface="方正启体简体"/>
                <a:ea typeface="方正启体简体"/>
              </a:rPr>
              <a:t>），其时苏东坡任密州（今山东诸城）知州，年已四十。正月二十日这天夜里，他梦见爱妻王弗，便写下了这首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方正启体简体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方正启体简体"/>
                <a:ea typeface="方正启体简体"/>
              </a:rPr>
              <a:t>有声当彻天，有泪当彻泉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方正启体简体"/>
              </a:rPr>
              <a:t>”</a:t>
            </a:r>
            <a:r>
              <a:rPr b="1" lang="zh-CN" sz="2400" spc="-1" strike="noStrike">
                <a:solidFill>
                  <a:srgbClr val="0000ff"/>
                </a:solidFill>
                <a:latin typeface="方正启体简体"/>
                <a:ea typeface="方正启体简体"/>
              </a:rPr>
              <a:t>（陈师道语）的悼亡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6"/>
          <p:cNvSpPr/>
          <p:nvPr/>
        </p:nvSpPr>
        <p:spPr>
          <a:xfrm>
            <a:off x="2712960" y="2656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1"/>
          <p:cNvSpPr/>
          <p:nvPr/>
        </p:nvSpPr>
        <p:spPr>
          <a:xfrm>
            <a:off x="2202480" y="171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f0"/>
                </a:solidFill>
                <a:latin typeface="Arial"/>
                <a:ea typeface="宋体"/>
              </a:rPr>
              <a:t>比较阅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782440" y="76464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cc0000"/>
                </a:solidFill>
                <a:latin typeface="方正启体简体"/>
                <a:ea typeface="方正启体简体"/>
              </a:rPr>
              <a:t>念奴娇       赤壁怀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2208240" y="155736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大江东去，浪淘尽，千古风流人物。 故垒西边，人道是、三国周郎赤壁。 乱石穿空，惊涛拍岸，卷起千堆雪。 江山如画，一时多少豪杰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遥想公谨当年，小乔初嫁了，雄姿英发。 羽扇纶巾，谈笑间，樯橹灰飞烟灭。 故国神游，多情应笑我，早生华发。 人间如梦，一尊还酹江月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矩形 15366"/>
          <p:cNvSpPr/>
          <p:nvPr/>
        </p:nvSpPr>
        <p:spPr>
          <a:xfrm>
            <a:off x="2567160" y="1467000"/>
            <a:ext cx="5952960" cy="581400"/>
          </a:xfrm>
          <a:prstGeom prst="rect">
            <a:avLst/>
          </a:prstGeom>
          <a:solidFill>
            <a:srgbClr val="cec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醉里挑灯看剑，梦回吹角连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Group 19"/>
          <p:cNvGrpSpPr/>
          <p:nvPr/>
        </p:nvGrpSpPr>
        <p:grpSpPr>
          <a:xfrm>
            <a:off x="1684440" y="492120"/>
            <a:ext cx="4942800" cy="700200"/>
            <a:chOff x="1684440" y="492120"/>
            <a:chExt cx="4942800" cy="700200"/>
          </a:xfrm>
        </p:grpSpPr>
        <p:pic>
          <p:nvPicPr>
            <p:cNvPr id="522" name="Picture 18" descr="未标题-1"/>
            <p:cNvPicPr/>
            <p:nvPr/>
          </p:nvPicPr>
          <p:blipFill>
            <a:blip r:embed="rId1"/>
            <a:stretch/>
          </p:blipFill>
          <p:spPr>
            <a:xfrm>
              <a:off x="1684440" y="492120"/>
              <a:ext cx="494280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文本框 2"/>
            <p:cNvSpPr/>
            <p:nvPr/>
          </p:nvSpPr>
          <p:spPr>
            <a:xfrm>
              <a:off x="2827440" y="568440"/>
              <a:ext cx="365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《破阵子》赏析词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矩形 15366"/>
          <p:cNvSpPr/>
          <p:nvPr/>
        </p:nvSpPr>
        <p:spPr>
          <a:xfrm>
            <a:off x="407880" y="2151000"/>
            <a:ext cx="11592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第一句，只六个字，却用三个连续的、富有特征性的动作，塑造了一个壮士的形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。“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挑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”又点出了夜景，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那位壮士在夜深人静、万籁俱寂之时，思潮汹涌，无法入睡，只好独自吃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吃“醉”之后，仍然不能平静，便继之以“挑灯”，又继之以“看剑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翻来覆去，总算睡着了。而刚一入睡，方才所想的一切，又幻为梦境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“梦回吹角连营”。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壮士好梦初醒，天已破晓，一个军营连着一个军营，响起一片号角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这号角声，富有催人勇往无前的力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而那位壮士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也正好是统领这些军营的将军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便一跃而起，全副披挂，要把他“醉里”“梦里”所想的一切统统变为现实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9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矩形 15366"/>
          <p:cNvSpPr/>
          <p:nvPr/>
        </p:nvSpPr>
        <p:spPr>
          <a:xfrm>
            <a:off x="2019240" y="1217520"/>
            <a:ext cx="8018640" cy="678600"/>
          </a:xfrm>
          <a:prstGeom prst="rect">
            <a:avLst/>
          </a:prstGeom>
          <a:solidFill>
            <a:srgbClr val="cec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八百里分麾下炙，五十弦翻塞外声，沙场秋点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矩形 15366"/>
          <p:cNvSpPr/>
          <p:nvPr/>
        </p:nvSpPr>
        <p:spPr>
          <a:xfrm>
            <a:off x="695160" y="2876400"/>
            <a:ext cx="1065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饱餐将军分给手下烤牛肉，兵士们欢欣鼓舞；军中奏起振奋人心的战斗乐曲。吃完牛肉的战士们，排成整齐的队伍。将军神采奕奕，意气昂扬，“点兵”出征。 “沙场秋点兵”，这个“秋”字用得好。正当“秋高马壮”的时候，预示了战无不胜的前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2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矩形 15366"/>
          <p:cNvSpPr/>
          <p:nvPr/>
        </p:nvSpPr>
        <p:spPr>
          <a:xfrm>
            <a:off x="2028960" y="1281240"/>
            <a:ext cx="6078240" cy="581400"/>
          </a:xfrm>
          <a:prstGeom prst="rect">
            <a:avLst/>
          </a:prstGeom>
          <a:solidFill>
            <a:srgbClr val="cec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马作的卢飞快，弓如霹雳弦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矩形 15366"/>
          <p:cNvSpPr/>
          <p:nvPr/>
        </p:nvSpPr>
        <p:spPr>
          <a:xfrm>
            <a:off x="911160" y="2212920"/>
            <a:ext cx="1036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将军率领铁骑，快马加鞭，神速奔赴前线，弓弦雷鸣，万箭齐发。虽没有更多的描写，但从“的卢马”的飞驰和“霹雳弦”的巨响中，仿佛看到若干连续出现的画面：敌人纷纷落马；残兵败将，狼狈溃退；将军身先士卒，乘胜追杀，一霎时结束了战斗；凯歌交奏，欢天喜地，旌旗招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9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矩形 15366"/>
          <p:cNvSpPr/>
          <p:nvPr/>
        </p:nvSpPr>
        <p:spPr>
          <a:xfrm>
            <a:off x="2019240" y="1193760"/>
            <a:ext cx="8002800" cy="727560"/>
          </a:xfrm>
          <a:prstGeom prst="rect">
            <a:avLst/>
          </a:prstGeom>
          <a:solidFill>
            <a:srgbClr val="cec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了却君王天下事，赢得生前身后名。可怜白发生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矩形 15366"/>
          <p:cNvSpPr/>
          <p:nvPr/>
        </p:nvSpPr>
        <p:spPr>
          <a:xfrm>
            <a:off x="192240" y="2438280"/>
            <a:ext cx="1199988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这是一场反击战。那将军是爱国的，但也是追求功名的。一战获胜，功成名就，既“了却君王天下事”，又“赢得生前身后名”，当为“壮”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然而在那个被投降派把持朝政的时代，并没有产生真正“壮词”的条件，以上所写，不过是词人孜孜以求的理想而已。词人刚攀上理想的高峰，忽然一落千丈，跌回冷酷的现实。沉痛地慨叹道：“可怜白发生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想到自己徒有凌云壮志，而“报国欲死无战场”。便只能在不眠之夜吃酒，只能在“醉里挑灯看剑”，只能在“梦”中驰逐沙场，快意一时。这处境，的确是“悲哀”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82556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Arial"/>
                <a:ea typeface="黑体"/>
              </a:rPr>
              <a:t>历史上最拽的十个女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1825200" y="1523880"/>
            <a:ext cx="876636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长孙皇后（唐太宗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最贤惠的女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上官婉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巾帼首相第一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貂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最早的女间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吕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最狠毒的女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柳如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最好命的红尘女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李清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最有才华的女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夏姬（郑穆公之女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最妖娆的女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文成公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最成功女外交官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万贵妃（明宪宗妃子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最有魅力的女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秋瑾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最豪气的女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9" dur="indefinite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5" dur="indefinite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1" dur="indefinite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7" dur="indefinite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3" dur="indefinite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9" dur="indefinite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5" dur="indefinite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1" dur="indefinite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7" dur="indefinite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5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5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5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5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FR_08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168120" y="0"/>
            <a:ext cx="12360240" cy="685800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3"/>
          <p:cNvSpPr/>
          <p:nvPr/>
        </p:nvSpPr>
        <p:spPr>
          <a:xfrm>
            <a:off x="1631880" y="1403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婉约派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内容上以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情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题材；语言清新、含蓄，情思曲折而真切；风格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委婉，绮丽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代表人物：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Times New Roman"/>
              </a:rPr>
              <a:t>李清照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、温庭筠、李煜、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Times New Roman"/>
              </a:rPr>
              <a:t>柳永、周邦彦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1774800" y="3276720"/>
            <a:ext cx="90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豪放派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内容上多以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抒发强烈的政治热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豪爽的英雄本色；语言畅达流利，直抒胸臆；风格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豪迈奔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意境雄奇阔大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由北宋词人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Times New Roman"/>
              </a:rPr>
              <a:t>苏轼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开创，经南宋词人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Times New Roman"/>
              </a:rPr>
              <a:t>辛弃疾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发展而推向高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WordArt 2"/>
          <p:cNvSpPr txBox="1"/>
          <p:nvPr/>
        </p:nvSpPr>
        <p:spPr>
          <a:xfrm>
            <a:off x="2209680" y="2438280"/>
            <a:ext cx="2667240" cy="182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词的结构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268" name="AutoShape 3"/>
          <p:cNvSpPr/>
          <p:nvPr/>
        </p:nvSpPr>
        <p:spPr>
          <a:xfrm>
            <a:off x="5257800" y="1752480"/>
            <a:ext cx="228600" cy="3276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solidFill>
            <a:srgbClr val="008000"/>
          </a:solidFill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WordArt 4"/>
          <p:cNvSpPr txBox="1"/>
          <p:nvPr/>
        </p:nvSpPr>
        <p:spPr>
          <a:xfrm>
            <a:off x="5715000" y="1371600"/>
            <a:ext cx="2379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单调（小令）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270" name="WordArt 5"/>
          <p:cNvSpPr txBox="1"/>
          <p:nvPr/>
        </p:nvSpPr>
        <p:spPr>
          <a:xfrm>
            <a:off x="5715000" y="3048120"/>
            <a:ext cx="1676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双调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271" name="AutoShape 6"/>
          <p:cNvSpPr/>
          <p:nvPr/>
        </p:nvSpPr>
        <p:spPr>
          <a:xfrm>
            <a:off x="8432640" y="2244600"/>
            <a:ext cx="152640" cy="2514600"/>
          </a:xfrm>
          <a:custGeom>
            <a:avLst/>
            <a:gdLst>
              <a:gd name="textAreaLeft" fmla="*/ 97560 w 152640"/>
              <a:gd name="textAreaRight" fmla="*/ 153000 w 15264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008000"/>
          </a:solidFill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WordArt 7"/>
          <p:cNvSpPr txBox="1"/>
          <p:nvPr/>
        </p:nvSpPr>
        <p:spPr>
          <a:xfrm>
            <a:off x="8709120" y="2170080"/>
            <a:ext cx="1828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上阕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273" name="WordArt 8"/>
          <p:cNvSpPr txBox="1"/>
          <p:nvPr/>
        </p:nvSpPr>
        <p:spPr>
          <a:xfrm>
            <a:off x="8956800" y="4262400"/>
            <a:ext cx="1752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下阕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pic>
        <p:nvPicPr>
          <p:cNvPr id="274" name="Picture 9" descr="雪人"/>
          <p:cNvPicPr/>
          <p:nvPr/>
        </p:nvPicPr>
        <p:blipFill>
          <a:blip r:embed="rId1"/>
          <a:stretch/>
        </p:blipFill>
        <p:spPr>
          <a:xfrm>
            <a:off x="1905120" y="3886200"/>
            <a:ext cx="2224080" cy="2743200"/>
          </a:xfrm>
          <a:prstGeom prst="rect">
            <a:avLst/>
          </a:prstGeom>
          <a:ln w="0">
            <a:noFill/>
          </a:ln>
        </p:spPr>
      </p:pic>
      <p:sp>
        <p:nvSpPr>
          <p:cNvPr id="275" name="文本框 1"/>
          <p:cNvSpPr/>
          <p:nvPr/>
        </p:nvSpPr>
        <p:spPr>
          <a:xfrm>
            <a:off x="6073200" y="464508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华文隶书"/>
                <a:ea typeface="华文隶书"/>
              </a:rPr>
              <a:t>三叠四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" descr="00005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3" descr="30-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743200" y="609480"/>
            <a:ext cx="4952880" cy="190980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4"/>
          <p:cNvSpPr/>
          <p:nvPr/>
        </p:nvSpPr>
        <p:spPr>
          <a:xfrm>
            <a:off x="6705720" y="2286000"/>
            <a:ext cx="17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范仲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1774800" y="2276640"/>
            <a:ext cx="87138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   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范仲淹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989-1052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字希文。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北宋政治家、文学家。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北宋名臣，江苏人，少年家贫但好学，当秀才时就常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以天下为己任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有敢言之名。曾多次上书批评当时的宰相，因而三次被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Object 3" descr=""/>
          <p:cNvPicPr/>
          <p:nvPr/>
        </p:nvPicPr>
        <p:blipFill>
          <a:blip r:embed="rId1"/>
          <a:stretch/>
        </p:blipFill>
        <p:spPr>
          <a:xfrm>
            <a:off x="1523880" y="333360"/>
            <a:ext cx="3733920" cy="175248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4"/>
          <p:cNvSpPr/>
          <p:nvPr/>
        </p:nvSpPr>
        <p:spPr>
          <a:xfrm>
            <a:off x="5664240" y="112536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黑体"/>
              </a:rPr>
              <a:t>作者简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500" autoRev="1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96" dur="500" autoRev="1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97" dur="500" autoRev="1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500" autoRev="1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02" dur="500" autoRev="1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03" dur="500" autoRev="1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7:56:28Z</dcterms:created>
  <dc:creator>wh</dc:creator>
  <dc:description/>
  <dc:language>en-US</dc:language>
  <cp:lastModifiedBy>xgq</cp:lastModifiedBy>
  <dcterms:modified xsi:type="dcterms:W3CDTF">2019-03-15T03:51:25Z</dcterms:modified>
  <cp:revision>3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13</vt:lpwstr>
  </property>
</Properties>
</file>