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camera.wav" ContentType="audio/x-wav"/>
  <Override PartName="/ppt/media/image7.jpeg" ContentType="image/jpeg"/>
  <Override PartName="/ppt/media/image1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A80-8700-4EEB-8DA5-D082371A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ACC3-CBC1-4C29-B92A-FB92E767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5E03-446F-44BD-9935-073787EB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83AD-FB0C-4DDD-9063-1A72F10D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A75B-D40D-4CF4-B373-C414D90F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701-27E1-4A19-BB4D-A93C9930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4C2-F5E1-4E27-AFFF-40EEA576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FFCE-6645-4B59-96E6-03E965AE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B6BB-ED97-41E4-9EF6-6D4E504C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FE4-3CF5-4BF5-AAEC-19B57CCF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7D93-B02A-41F3-9807-64A8C211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A86-58A8-4B47-9991-E4CCC9FA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4660-2CF9-46FF-92D6-AA4BBF103F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10149" t="0" r="12052" b="666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66160" y="6400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陈胜 吴广起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79480" y="13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齐读第一自然段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解释下列加红色的字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陈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阳城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字涉。吴广者，阳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也，字叔。陈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少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耕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耕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上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恨久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曰：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富贵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忘。”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者笑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曰：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佣耕，何富贵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？”陈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太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曰：“嗟乎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燕雀　　　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鸿鹄　　　　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哉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1557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表判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02560" y="2421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去、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助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辅助音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24720" y="5445000"/>
            <a:ext cx="21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助词：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24922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年轻的时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27640" y="249228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曾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2492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停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2492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被雇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3429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失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84720" y="3429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倘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3429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勿，不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16000" y="4437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回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4437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7564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长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5445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见识短浅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5445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怎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48360" y="544500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有远大抱负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76720" y="4437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表反诘语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92160" y="342900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田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333360"/>
            <a:ext cx="842472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译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陈胜是阳城人，字涉。吴广是阳夏人，字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陈涉年轻时，曾经同别人一道被人雇佣耕地，（有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次）陈涉停止耕作走到田埂上休息，因失望而叹恨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很久，说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假如有一天谁富贵了，可不要忘记伙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们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佣工们笑着回答说：“你是给人家当雇工的，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富贵呢？”陈涉长叹一声说：“唉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燕雀怎么知道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鹄的凌云志向呢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836640"/>
            <a:ext cx="849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世元年七月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发　　闾左　　　　　　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渔阳九百人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大泽乡。陈胜、吴广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当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为屯长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天大雨，道不通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已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失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失期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皆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13413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征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1341360"/>
            <a:ext cx="31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指贫苦人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59640" y="134136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同“谪”，发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27280" y="2276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停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2276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编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328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当在征发之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71640" y="32846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适逢，恰巧遇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3284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估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46920" y="3284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误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4437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按照法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9840" y="842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476280"/>
            <a:ext cx="720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0"/>
            <a:ext cx="82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齐读第二自然段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解释下列加红色的字词</a:t>
            </a:r>
            <a:r>
              <a:rPr b="1" lang="zh-CN" sz="3200" spc="-1" strike="noStrike">
                <a:solidFill>
                  <a:srgbClr val="ccccff"/>
                </a:solidFill>
                <a:latin typeface="Times New Roman"/>
                <a:ea typeface="华文细黑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43120" y="13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69228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译文：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秦二世元年七月，朝廷征发九百贫苦百姓去驻守渔阳，临时停驻在大泽乡。陈胜、吴广都被编进征发戍边的队伍里，并担任驻守戍边的小头目。他们（在这里）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恰巧遇到下大雨，道路不通，估计已经误期。误期，按照秦朝法令都要被斩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这几行文字告诉了我们哪些事情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是秦朝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徭役繁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民众苦不堪言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65480" y="4292640"/>
            <a:ext cx="2679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三是陈胜吴广有一定的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细黑"/>
              </a:rPr>
              <a:t>组织才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可谓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拥有造反的本钱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90640" y="3141720"/>
            <a:ext cx="267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二是秦朝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细黑"/>
              </a:rPr>
              <a:t>严刑酷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百姓战战兢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404640"/>
            <a:ext cx="8748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陈胜、吴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谋曰：“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亦死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举大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亦死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死，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国可乎？”陈胜曰：“天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秦久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吾闻二世少子也，不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当立者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公子扶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扶苏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以    数    谏   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上使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兵。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闻无罪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世杀之。百姓多闻其贤，未知其死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项燕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楚将，数有功，爱士卒，楚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以为死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或以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。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诚     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吾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自称公子扶苏、项燕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天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者。”吴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以为    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8366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于是，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48000" y="8366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逃亡 逃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8366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发动大事 干大事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700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同样 等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47640" y="15573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而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24360" y="1700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苦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79640" y="256536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封建君主即位叫做“立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80000" y="2565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42900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因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76360" y="3357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屡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3357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劝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3357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缘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3357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率领 带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56360" y="3429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有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4724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4724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爱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04000" y="4724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有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5445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逃亡 逃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24000" y="544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果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32000" y="54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360" y="55166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冒称、假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740720" y="5373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向、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630864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同“倡” 倡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8000" y="63086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应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6308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响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59280" y="63086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认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51640" y="63086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正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26920" y="333360"/>
            <a:ext cx="7705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译文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陈胜、吴广于是一起商量说：“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现在逃跑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(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被抓回来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)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也是死，起义也是死，同样是死，为国事而死好吗？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”陈胜说：“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全国百姓苦于秦朝的统治已经很久了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我听说二世是秦始皇的小儿子，不应当即位做皇帝，应当即位做皇帝的是公子扶苏。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扶苏因为屡次劝戒秦始皇的缘故，皇帝派他在外面带兵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。现在有人听说扶苏没有罪，二世却杀了他。百姓大多听说他很贤明，但不知道他已经死了。项燕是楚国大将，多次立下战功，又爱护士兵，楚国人很爱怜他。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有人认为他死了，有人认为他逃跑了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。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现在果真把我们的人假称是公子扶苏、项燕的队伍，倡导天下人反秦，应该有很多响应的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。”吴广认为他说得很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2860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乃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行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卜者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其      指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曰：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足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事皆成，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有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然足下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鬼乎？”陈胜、吴广喜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鬼，曰：“此教我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众耳。”乃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丹   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帛曰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陈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，置人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鱼腹中。卒买鱼烹食，得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腹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固        以               怪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6858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占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56000" y="692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他们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685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765000"/>
            <a:ext cx="26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古人对别人的尊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676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能建立功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这件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80360" y="1700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考虑  思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动词，威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92720" y="2637000"/>
            <a:ext cx="14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用丹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3657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动词，为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90920" y="3657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名作动，用鱼网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57200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字条或写有字的绸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87640" y="4581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本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4648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同“已”已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4648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认为怪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5734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鱼腹中的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34840" y="26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华文细黑"/>
              </a:rPr>
              <a:t>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228600"/>
            <a:ext cx="932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令吴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之         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所旁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丛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火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狐鸣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呼曰：“大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陈胜王！”卒皆夜惊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旦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            卒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往往      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皆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指    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陈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838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暗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914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往、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6922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旅行或行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在途中停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762120"/>
            <a:ext cx="17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树木荫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的神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51640" y="6922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名作动 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用笼子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20968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作狐狸嗥叫的声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2286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复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284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明天、第二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3284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处处 到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3280" y="3284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谈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2000" y="32846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用手指并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眼睛注视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476280"/>
            <a:ext cx="7632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译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于是二人就去占卜。占卜的人知道他们的意图，说：“你们要做的事情都能成功，并能建立功业。然而你们还是把事情向鬼神卜问一下吧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!”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陈胜、吴广听了很高兴，又考虑卜鬼的事，说：“这是教我们利用鬼神来威服众人罢了。”就用丹砂在绸子上写 “陈胜王”三个字，放在别人用网捕获的鱼的肚子里面。士兵们买鱼煮了吃，发现鱼肚子里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绸子上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写的字，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本来已经认为这事怪异了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。陈胜又暗中指使吴广到驻地旁的丛林里的神庙中，夜里用笼罩着火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装作鬼火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，又装作狐狸嗥叫时凄厉的声音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向士兵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喊道：“大楚要复兴，陈胜要为王！”士兵们夜里都惊恐害怕。第二天，士兵中到处谈论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晚上发生的事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，都用手指并用眼睛注视着陈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58520" y="914400"/>
            <a:ext cx="1094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司马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9343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-303120" y="38160"/>
            <a:ext cx="9675720" cy="6835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19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>
            <a:alphaModFix amt="50000"/>
          </a:blip>
          <a:srcRect l="30315" t="7408" r="39395" b="59271"/>
          <a:stretch/>
        </p:blipFill>
        <p:spPr>
          <a:xfrm>
            <a:off x="1476360" y="0"/>
            <a:ext cx="4797360" cy="6858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476360" y="0"/>
            <a:ext cx="475128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32560" y="228600"/>
            <a:ext cx="10947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威众策略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（一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84960" y="173160"/>
            <a:ext cx="26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乃丹书帛曰“陈胜王”，置人所罾鱼腹中。卒买鱼烹食，得鱼腹中书，固已怪之矣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37280" y="4478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置书鱼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3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rcRect l="61543" t="7575" r="9231" b="59094"/>
          <a:stretch/>
        </p:blipFill>
        <p:spPr>
          <a:xfrm>
            <a:off x="160020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8520" y="297000"/>
            <a:ext cx="1094760" cy="65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威众策略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二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32680" y="24912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又间令吴广之次所旁丛祠中，夜篝火，狐鸣呼曰：“大楚兴，陈胜王”卒皆夜惊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85000" y="4935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篝火狐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496880" y="0"/>
            <a:ext cx="4599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 rot="5400000">
            <a:off x="2179800" y="2819880"/>
            <a:ext cx="5438880" cy="1217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bcbcb">
                      <a:alpha val="79000"/>
                    </a:srgbClr>
                  </a:outerShdw>
                </a:effectLst>
                <a:latin typeface="宋体"/>
              </a:rPr>
              <a:t>为何要利用鬼怪之说</a:t>
            </a:r>
            <a:r>
              <a:rPr b="1" lang="en-US" sz="4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bcbcb">
                      <a:alpha val="79000"/>
                    </a:srgbClr>
                  </a:outerShdw>
                </a:effectLst>
                <a:latin typeface="宋体"/>
              </a:rPr>
              <a:t>?</a:t>
            </a:r>
            <a:endParaRPr b="1" lang="en-US" sz="4400" spc="1" strike="noStrike">
              <a:ln w="12600">
                <a:solidFill>
                  <a:srgbClr val="c4b596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cbcbcb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horz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22860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吴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爱人，士卒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者。将尉醉，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故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言欲亡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忿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尉，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令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其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辱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激怒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尉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广。          尉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广起，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杀尉。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之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杀两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76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一向；平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95640" y="76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96360" y="692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故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使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恼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24360" y="1700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1676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吴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1676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用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64360" y="16286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他的 吴广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743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名作动  用竹板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08360" y="2637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拔出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27640" y="278136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表承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3789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帮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19280" y="37162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道 共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5373720"/>
            <a:ext cx="79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齐读第三自然段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解释下列加红色的字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762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译文：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吴广一向待人很好，士兵中听从吴广差遣的人很多。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天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率领戍卒的军官喝醉了，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吴广故意再三说想要逃跑，来使尉恼怒，使尉责辱他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借此来激怒吴广的部下。尉果然用竹板子打吴广。尉剑挺出鞘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想杀吴广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吴广跳起来夺过剑杀死了那个尉。陈胜协助吴广，一同杀了两个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4762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召令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徒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曰：“公等遇雨，皆已失期，失期当斩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藉第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斩，而戍死者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十六七。且壮士不死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即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死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举大名　　　　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王侯将相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　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乎！”徒属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曰：“敬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受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”乃诈称公子扶苏、项燕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从　　民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90792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所属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67640" y="90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即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7733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11280" y="17733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本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1700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倒也罢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63700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图大事成大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56000" y="25653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2637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难道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2000" y="2637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血脉相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500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听从号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35733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依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3573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人民的愿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414972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右，称大楚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坛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　　　      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首。陈胜自立为将军，吴广为都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9280" y="465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露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2000" y="45813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40360" y="46530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动词，宣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80360" y="465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90792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译文：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陈胜召集并号令所属的士兵说：“你们诸位遇上了大雨，都已经误了期限，误了期限该判杀头。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即使仅能免于斩刑，而戍边的人中本来也有十分之六七的会死掉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大丈夫不死便罢了，要死就要成就大的名声啊！王侯将相难道有天生的贵种么？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属下的士兵都说：“愿意听从您的号令。”于是他们就假称是公子扶苏、项燕的队伍，为的是依从人民的愿望。 （他们）露出右臂作为标志，号称大楚。用土筑成高台并在台上宣誓，用（被杀死的两个）尉的头祭天。陈胜立自己为将军，吴广担任都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9280" y="476280"/>
            <a:ext cx="882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攻大泽乡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收    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攻蕲。蕲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　　　　乃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离人葛婴将兵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蕲以东。攻铚、酂、苦、柘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谯，皆下之。行收兵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至陈，车六七百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千余，卒数万人。攻陈，陈守令皆不在，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守丞与战谯门中，弗胜，守丞死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50920" y="981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收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87640" y="981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表承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03640" y="90792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攻下，攻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40720" y="981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命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68360" y="198900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攻取（土地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95640" y="2924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等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48360" y="2924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四马一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3933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人一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4360" y="4941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占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73440" y="4941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172200" y="4572000"/>
            <a:ext cx="609480" cy="609480"/>
          </a:xfrm>
          <a:custGeom>
            <a:avLst/>
            <a:gdLst>
              <a:gd name="textAreaLeft" fmla="*/ 246600 w 609480"/>
              <a:gd name="textAreaRight" fmla="*/ 362880 w 609480"/>
              <a:gd name="textAreaTop" fmla="*/ 246600 h 609480"/>
              <a:gd name="textAreaBottom" fmla="*/ 3628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42" y="8742"/>
                </a:lnTo>
                <a:lnTo>
                  <a:pt x="10800" y="0"/>
                </a:lnTo>
                <a:lnTo>
                  <a:pt x="12858" y="8742"/>
                </a:lnTo>
                <a:lnTo>
                  <a:pt x="21600" y="10800"/>
                </a:lnTo>
                <a:lnTo>
                  <a:pt x="12858" y="12858"/>
                </a:lnTo>
                <a:lnTo>
                  <a:pt x="10800" y="21600"/>
                </a:lnTo>
                <a:lnTo>
                  <a:pt x="8742" y="12858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800600"/>
            <a:ext cx="30492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57440" y="4724280"/>
            <a:ext cx="609480" cy="152640"/>
          </a:xfrm>
          <a:prstGeom prst="line">
            <a:avLst/>
          </a:prstGeom>
          <a:ln w="54000">
            <a:solidFill>
              <a:srgbClr val="ffff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457200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4343040" y="4114440"/>
            <a:ext cx="609480" cy="609480"/>
          </a:xfrm>
          <a:prstGeom prst="line">
            <a:avLst/>
          </a:prstGeom>
          <a:ln w="54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4038480"/>
            <a:ext cx="228600" cy="152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276720" y="4114800"/>
            <a:ext cx="761760" cy="152280"/>
          </a:xfrm>
          <a:prstGeom prst="line">
            <a:avLst/>
          </a:prstGeom>
          <a:ln w="54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4114800"/>
            <a:ext cx="228600" cy="3049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419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2133720" y="4267080"/>
            <a:ext cx="838080" cy="76320"/>
          </a:xfrm>
          <a:prstGeom prst="line">
            <a:avLst/>
          </a:prstGeom>
          <a:ln w="54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5120" y="4114800"/>
            <a:ext cx="228600" cy="30492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6520" y="441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371600" y="3276720"/>
            <a:ext cx="533520" cy="838080"/>
          </a:xfrm>
          <a:prstGeom prst="line">
            <a:avLst/>
          </a:prstGeom>
          <a:ln w="54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838080" y="3429000"/>
            <a:ext cx="457200" cy="838080"/>
          </a:xfrm>
          <a:prstGeom prst="line">
            <a:avLst/>
          </a:prstGeom>
          <a:ln w="54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4114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大泽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88000" y="414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10680" y="3657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2120" y="4265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3000"/>
                            </p:stCondLst>
                            <p:childTnLst>
                              <p:par>
                                <p:cTn id="75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500"/>
                            </p:stCondLst>
                            <p:childTnLst>
                              <p:par>
                                <p:cTn id="75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4000"/>
                            </p:stCondLst>
                            <p:childTnLst>
                              <p:par>
                                <p:cTn id="76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4500"/>
                            </p:stCondLst>
                            <p:childTnLst>
                              <p:par>
                                <p:cTn id="76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7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500"/>
                            </p:stCondLst>
                            <p:childTnLst>
                              <p:par>
                                <p:cTn id="77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6000"/>
                            </p:stCondLst>
                            <p:childTnLst>
                              <p:par>
                                <p:cTn id="7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ff"/>
                                </p:to>
                              </p:animCl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6500"/>
                            </p:stCondLst>
                            <p:childTnLst>
                              <p:par>
                                <p:cTn id="7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ff"/>
                                </p:to>
                              </p:animCl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7000"/>
                            </p:stCondLst>
                            <p:childTnLst>
                              <p:par>
                                <p:cTn id="79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7500"/>
                            </p:stCondLst>
                            <p:childTnLst>
                              <p:par>
                                <p:cTn id="7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8000"/>
                            </p:stCondLst>
                            <p:childTnLst>
                              <p:par>
                                <p:cTn id="80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8500"/>
                            </p:stCondLst>
                            <p:childTnLst>
                              <p:par>
                                <p:cTn id="80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9000"/>
                            </p:stCondLst>
                            <p:childTnLst>
                              <p:par>
                                <p:cTn id="8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1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125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起义军攻下大泽乡，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收集大泽乡的义军攻打蕲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。蕲县攻下后，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就派符离人葛婴率领部队攻取蕲县以东的地方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，攻打铚、酂、苦、柘、谯等地，都攻占下来了。他们行军中沿途收纳兵员，等到到达陈县，已有战车六七百辆，骑兵一千多人，步兵几万人。攻打陈县时，郡守和县令都不在城中，只有守丞带兵在城门洞中同起义军作战。守丞不能取胜，被杀死了，起义军就进城占领了陈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24000" y="404640"/>
            <a:ext cx="856908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数日，号令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三老、豪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与（之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皆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会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事。三老、豪杰皆曰：“将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身　被　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执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伐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暴秦，复立楚国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社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宜为王。”陈胜乃立为王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楚。当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诸郡县苦秦吏者，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其长吏，杀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陈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95640" y="9079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召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3280" y="9079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相偕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\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907920"/>
            <a:ext cx="26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聚会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\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商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8446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亲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56360" y="1844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同“披”披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8526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铁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28526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武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84360" y="28526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道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64000" y="28526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诛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36000" y="28526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国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3860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论功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40360" y="486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动词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\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惩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67640" y="4869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19640" y="37162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宣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56360" y="37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扩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6360" y="580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55640" y="19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   </a:t>
            </a:r>
            <a:r>
              <a:rPr b="0" lang="zh-CN" sz="6600" spc="-1" strike="noStrike">
                <a:solidFill>
                  <a:srgbClr val="ff00ff"/>
                </a:solidFill>
                <a:latin typeface="Times New Roman"/>
                <a:ea typeface="黑体"/>
              </a:rPr>
              <a:t>陈  涉  世  家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2997360"/>
            <a:ext cx="64008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司  马  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37080" y="573408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71640" y="620640"/>
            <a:ext cx="7273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过了几天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陈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传令召集当地管教化的乡官和有声望的人一起来集会议事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官和有声望的人都说：“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将军亲自穿着铁甲，手拿锐利的武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讨伐昏庸无道的秦王，诛灭凶残暴虐的秦朝，重建楚国，论功劳应当称王。”于是陈胜被拥戴做了王，定国号叫“张楚”。在这时候，各郡县苦于秦朝官吏压迫的人都纷纷起来惩罚当地的郡县长官，把他们杀死来响应陈涉（的号召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93920" y="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研读第一段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32000" y="4797360"/>
            <a:ext cx="58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为以后领导起义作伏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8360" y="3645000"/>
            <a:ext cx="77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段叙述了陈胜青年时代的远大抱负，有什么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40000" y="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8360" y="76500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一段运用了什么描写方法来塑造人物形象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1557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语言、动作、神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8360" y="2276640"/>
            <a:ext cx="739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年时期的陈胜的人物形象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76360" y="2924280"/>
            <a:ext cx="6705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胸怀大志、远大抱负、敢于斗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5373720"/>
            <a:ext cx="82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先写这段主要是表明陈胜后来发动起义并非偶然，早有其思想根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32720" y="609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50920" y="11592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朗读第一段        思考回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这一段中陈胜和一般农民有何异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9280" y="1413000"/>
            <a:ext cx="92901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与人佣耕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表明陈胜是个被剥削受压迫的穷苦农民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怅恨久之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说明他对所处的贫困地位的不满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苟富贵，无相忘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表达出他有福同享的思想意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燕雀安知鸿鹄之志哉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用形象的比喻说明了他的远大志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6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1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6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1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6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1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6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1" dur="5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79280" y="0"/>
            <a:ext cx="8964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默读第二段，完成下列练习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起义的导火线是＿＿＿＿＿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__________________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．陈胜认为起义将取得人民支持的理由是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①   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__________________________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②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__________________________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。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42920" y="765000"/>
            <a:ext cx="75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去渔阳途中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遇雨失期，按法皆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0920" y="43830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秦二世杀太子扶苏，引起人民不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2578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楚人怀念楚将项燕，有强烈的复国愿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546120"/>
            <a:ext cx="87566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．为起义作的舆论准备是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        ①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_____________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        ②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_____________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．提出的起义口号是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________________________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71640" y="1197000"/>
            <a:ext cx="289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置书鱼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00360" y="2492280"/>
            <a:ext cx="327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篝火狐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19280" y="4869000"/>
            <a:ext cx="503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自称扶苏、项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79280" y="0"/>
            <a:ext cx="896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朗读第二段，完成下列练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陈胜认为起义将取得人民支持的理由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00000" y="1989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秦二世杀太子扶苏，引起人民不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71640" y="34290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楚人怀念楚将项燕，有强烈的复国愿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11280" y="2595240"/>
            <a:ext cx="790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请仔细阅读陈、吴二人对当时形势的分析和制定策略的文字。回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  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句，概括了秦王朝对人民压迫、剥削程度之深，这是起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根本原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也是可以利用的有利条件。陈涉提出利用封建统治集团内部的矛盾，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名义，“为天下唱”，以顺应民心，树立起义队伍的威信。他确信，只要义旗一举，“宜多应者”。显示了他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有勇有谋</a:t>
            </a:r>
            <a:r>
              <a:rPr b="1" lang="zh-CN" sz="3200" spc="-1" strike="noStrike">
                <a:solidFill>
                  <a:srgbClr val="b2b2b2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65920" y="184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天下苦秦久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72080" y="378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扶苏、项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520" y="29246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制造舆论，其目的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鼓动人心，树立威信，让戍卒相信“大楚兴，陈胜王”的必然趋势。结果，在戍卒中很快得到反应。再次显示了陈、吴二人的斗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聪明才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17400" y="1916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鱼腹藏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09760" y="1916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篝火狐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98960" y="249228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此教我先威众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4360" y="2133720"/>
            <a:ext cx="79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本段开头描述了哪三个场面？反映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陈胜、吴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什么精神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”“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华文细黑"/>
              </a:rPr>
              <a:t>__________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”“__________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42920" y="3068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并杀两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35280" y="3068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召令徒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27640" y="2997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为坛而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ubRRectCallout"/>
          <p:cNvSpPr/>
          <p:nvPr/>
        </p:nvSpPr>
        <p:spPr>
          <a:xfrm flipV="1">
            <a:off x="611280" y="3715920"/>
            <a:ext cx="7704000" cy="2232000"/>
          </a:xfrm>
          <a:custGeom>
            <a:avLst/>
            <a:gdLst>
              <a:gd name="textAreaLeft" fmla="*/ 51480 w 7704000"/>
              <a:gd name="textAreaRight" fmla="*/ 7635960 w 7704000"/>
              <a:gd name="textAreaTop" fmla="*/ 15120 h 2232000"/>
              <a:gd name="textAreaBottom" fmla="*/ 1767960 h 2232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了陈胜、吴广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机智勇敢和反抗斗争精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这三个场面，体现了陈胜、吴广起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计划周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讲究策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76500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阅读第三段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思考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7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2"/>
          <a:srcRect l="8390" t="4546" r="526" b="471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7027560" y="228600"/>
            <a:ext cx="1643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且壮士不死即已，死即举大名耳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王侯将相宁有种乎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16040" y="105264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这句话的包含了怎样的思想内涵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16000" y="2492280"/>
            <a:ext cx="56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敢做敢为、强烈的反抗精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要做天下主人的英雄气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对封建等级制度的否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了解陈胜、吴广领导的农民起义的经过及其历史意义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9718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．领会课文运用对话表现人物性格的写作特点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191120"/>
            <a:ext cx="71629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．初步了解文言文中一词多义、成分省略等语言现象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738440" y="16020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6633"/>
                </a:solidFill>
                <a:latin typeface="Times New Roman"/>
                <a:ea typeface="华文新魏"/>
              </a:rPr>
              <a:t>第三段分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06920" y="1243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陈胜发动起义的步骤有哪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88640" y="345276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陈胜简短的起义号召有何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7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19480" y="18763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苦肉计拉开序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56440" y="1916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摆处境指唯一生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19480" y="24861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激将法鼓舞士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53800" y="2492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筑坛盟誓团结协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4314960"/>
            <a:ext cx="768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讲明当时形式，分析两种前途命运，号召激励众人反抗决心，显示超人才略胆识与卓越组织领导才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143000" y="7621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685800"/>
            <a:ext cx="739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、   哪些词语表现了起义军的胜利进军情况？结尾一句有什么作用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2133720"/>
            <a:ext cx="784872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攻”“下”“收”“皆下”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等动词，表明陈胜、吴广起义势如破竹、所向披靡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00000" y="3597120"/>
            <a:ext cx="73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结尾一句进一步反映起义的影响、号召力之大；农民起义风暴席卷各地，猛烈地动摇了秦王朝的统治。同时也告诉人们，这场农民运动的爆发是历史的必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80880" y="457200"/>
            <a:ext cx="2057400" cy="64260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文章脉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2133720"/>
            <a:ext cx="17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谋划起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5181480"/>
            <a:ext cx="18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发动起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09680" y="1386000"/>
            <a:ext cx="10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原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1600200"/>
            <a:ext cx="246240" cy="1981080"/>
          </a:xfrm>
          <a:custGeom>
            <a:avLst/>
            <a:gdLst>
              <a:gd name="textAreaLeft" fmla="*/ 157320 w 246240"/>
              <a:gd name="textAreaRight" fmla="*/ 246600 w 24624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1219320"/>
            <a:ext cx="246240" cy="838080"/>
          </a:xfrm>
          <a:custGeom>
            <a:avLst/>
            <a:gdLst>
              <a:gd name="textAreaLeft" fmla="*/ 157320 w 246240"/>
              <a:gd name="textAreaRight" fmla="*/ 246600 w 2462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54560" y="990720"/>
            <a:ext cx="903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根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40320" y="990720"/>
            <a:ext cx="29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失期，法皆斩</a:t>
            </a: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40320" y="1614600"/>
            <a:ext cx="29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天下苦秦久矣</a:t>
            </a: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54560" y="228600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诈自称公子扶苏、项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76720" y="3048120"/>
            <a:ext cx="152280" cy="76176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54560" y="2819520"/>
            <a:ext cx="18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藏书鱼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54560" y="34434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篝火狐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81080" y="4343400"/>
            <a:ext cx="246240" cy="1981080"/>
          </a:xfrm>
          <a:custGeom>
            <a:avLst/>
            <a:gdLst>
              <a:gd name="textAreaLeft" fmla="*/ 157320 w 246240"/>
              <a:gd name="textAreaRight" fmla="*/ 246600 w 24624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09680" y="42051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义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5348160"/>
            <a:ext cx="66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义初期的迅猛发展和陈胜立国的经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09680" y="5867280"/>
            <a:ext cx="55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概述此后诸郡县反秦斗争的情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4191120"/>
            <a:ext cx="163440" cy="914400"/>
          </a:xfrm>
          <a:custGeom>
            <a:avLst/>
            <a:gdLst>
              <a:gd name="textAreaLeft" fmla="*/ 104400 w 163440"/>
              <a:gd name="textAreaRight" fmla="*/ 163800 w 1634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82920" y="39625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并杀两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82920" y="44197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召令徒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82920" y="4890960"/>
            <a:ext cx="18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为坛而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53680" y="2286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策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53680" y="32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舆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03960" y="282816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时间顺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2600" y="2951280"/>
            <a:ext cx="6714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1280" y="3068640"/>
            <a:ext cx="0" cy="172872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219320" y="91440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cc"/>
                </a:solidFill>
                <a:latin typeface="Times New Roman"/>
                <a:ea typeface="黑体"/>
              </a:rPr>
              <a:t>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312408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陈胜与同伴们的对话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陈胜同吴广的对话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陈胜同戍卒的对话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114800" y="34290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现了他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远大的志向和反抗意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67080" y="4419720"/>
            <a:ext cx="426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反映了他们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敢于斗争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,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善于斗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智慧和才能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5562720"/>
            <a:ext cx="4419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现出陈胜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反抗阶级压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英雄气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20574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Times New Roman"/>
              </a:rPr>
              <a:t>读一读文中的三次对话，思考这些对话表现出主人公怎样的精神品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083600" y="2286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6633"/>
                </a:solidFill>
                <a:latin typeface="Times New Roman"/>
                <a:ea typeface="华文新魏"/>
              </a:rPr>
              <a:t>人物分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0200" y="5013360"/>
            <a:ext cx="3045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起义以后的陈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2666880"/>
            <a:ext cx="5203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起义初期的陈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3886200"/>
            <a:ext cx="5346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起义时刻的陈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1523880"/>
            <a:ext cx="5203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少年时期的陈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81480" y="1371600"/>
            <a:ext cx="19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胸怀大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1371600"/>
            <a:ext cx="40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81480" y="1752480"/>
            <a:ext cx="26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抱负远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5720" y="2590920"/>
            <a:ext cx="40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590920"/>
            <a:ext cx="18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谨慎谋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94320" y="3192480"/>
            <a:ext cx="1425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5520" y="3809880"/>
            <a:ext cx="14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周密部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13400" y="4297320"/>
            <a:ext cx="853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05520" y="304812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舆论策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25720" y="3809880"/>
            <a:ext cx="40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4280" y="495288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25480" y="4941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攻城掠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62520" y="601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05520" y="5334120"/>
            <a:ext cx="19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据陈称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3248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05520" y="426708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号召激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81680" y="1600200"/>
            <a:ext cx="19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敢于斗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81680" y="2743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善于斗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629400" y="3886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超人才略胆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53080" y="51055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卓越组织才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-75960" y="836640"/>
            <a:ext cx="1277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会         将          乃        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58920" y="76500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58920" y="227664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87280" y="371628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58920" y="522936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47640" y="692280"/>
            <a:ext cx="5029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天大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与皆来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计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19280" y="2205000"/>
            <a:ext cx="4191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项燕为楚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上使外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将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92360" y="3716280"/>
            <a:ext cx="426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陈胜吴广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谋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当立者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公子扶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19280" y="5157720"/>
            <a:ext cx="426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皆次当行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屯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天下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56000" y="620640"/>
            <a:ext cx="4419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恰逢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聚集，聚会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356000" y="21337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将领，大将，名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率领，带兵，动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48360" y="371628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于是，就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76720" y="5229360"/>
            <a:ext cx="358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做，当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给，替，介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50920" y="0"/>
            <a:ext cx="20844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一词多义</a:t>
            </a:r>
            <a:endParaRPr b="1" i="1" lang="en-US" sz="2400" spc="-1" strike="noStrike">
              <a:ln cap="sq"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09480" y="495360"/>
            <a:ext cx="6717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-118800" y="620640"/>
            <a:ext cx="1277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故           道             令           数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95280" y="6094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295280" y="22096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295280" y="3886200"/>
            <a:ext cx="76320" cy="1143000"/>
          </a:xfrm>
          <a:custGeom>
            <a:avLst/>
            <a:gdLst>
              <a:gd name="textAreaLeft" fmla="*/ 48960 w 76320"/>
              <a:gd name="textAreaRight" fmla="*/ 7632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95280" y="548640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52480" y="30492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广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故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数言欲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扶苏以数谏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52480" y="2057400"/>
            <a:ext cx="4038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道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伐无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752480" y="3733920"/>
            <a:ext cx="4191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乃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令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符离人葛婴将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陈守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令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皆不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52480" y="5334120"/>
            <a:ext cx="4496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以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谏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卒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万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429000" y="304920"/>
            <a:ext cx="5410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故意，副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（缘故，名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76720" y="2057400"/>
            <a:ext cx="586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道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封建社会所认为好的政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62720" y="3733920"/>
            <a:ext cx="3200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派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县令，官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33920" y="5410080"/>
            <a:ext cx="396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多次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shu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几，数词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sh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826920" y="189000"/>
            <a:ext cx="464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皆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Times New Roman"/>
              </a:rPr>
              <a:t>次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当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之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Times New Roman"/>
              </a:rPr>
              <a:t>次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所旁丛祠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24360" y="189000"/>
            <a:ext cx="4572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编次，依次编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旅行或行军在途中停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6920" y="1844640"/>
            <a:ext cx="33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乃丹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Times New Roman"/>
              </a:rPr>
              <a:t>书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得鱼腹中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Times New Roman"/>
              </a:rPr>
              <a:t>书</a:t>
            </a:r>
            <a:r>
              <a:rPr b="1" lang="zh-CN" sz="3200" spc="-1" strike="noStrike" u="sng">
                <a:solidFill>
                  <a:srgbClr val="66ff33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35280" y="1916280"/>
            <a:ext cx="187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字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3240" y="549360"/>
            <a:ext cx="4550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26920" y="40464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26920" y="198900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26920" y="357336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26920" y="522936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731600" y="3429000"/>
            <a:ext cx="286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肉食者谋之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又何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Times New Roman"/>
              </a:rPr>
              <a:t>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又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Times New Roman"/>
              </a:rPr>
              <a:t>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令吴广之次所从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460880" y="5084640"/>
            <a:ext cx="2427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Times New Roman"/>
              </a:rPr>
              <a:t>若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为佣耕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何富贵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Times New Roman"/>
              </a:rPr>
              <a:t>若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听茶声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934960" y="3284640"/>
            <a:ext cx="113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暗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87320" y="5184720"/>
            <a:ext cx="113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好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755640" y="476280"/>
            <a:ext cx="64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547640" y="5157720"/>
            <a:ext cx="71640" cy="1427400"/>
          </a:xfrm>
          <a:custGeom>
            <a:avLst/>
            <a:gdLst>
              <a:gd name="textAreaLeft" fmla="*/ 45720 w 71640"/>
              <a:gd name="textAreaRight" fmla="*/ 72000 w 71640"/>
              <a:gd name="textAreaTop" fmla="*/ 37080 h 1427400"/>
              <a:gd name="textAreaBottom" fmla="*/ 1390320 h 142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47640" y="2852640"/>
            <a:ext cx="71640" cy="2089080"/>
          </a:xfrm>
          <a:custGeom>
            <a:avLst/>
            <a:gdLst>
              <a:gd name="textAreaLeft" fmla="*/ 45720 w 71640"/>
              <a:gd name="textAreaRight" fmla="*/ 72000 w 7164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619280" y="1628640"/>
            <a:ext cx="76320" cy="935280"/>
          </a:xfrm>
          <a:custGeom>
            <a:avLst/>
            <a:gdLst>
              <a:gd name="textAreaLeft" fmla="*/ 48960 w 76320"/>
              <a:gd name="textAreaRight" fmla="*/ 76320 w 7632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547640" y="333360"/>
            <a:ext cx="219240" cy="8650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40120" y="189000"/>
            <a:ext cx="172008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功宜为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</a:rPr>
              <a:t>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楚兴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陈胜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</a:rPr>
              <a:t>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52360" y="1484280"/>
            <a:ext cx="146088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扶苏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</a:rPr>
              <a:t>以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数谏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祭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</a:rPr>
              <a:t>以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尉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196720" y="2708280"/>
            <a:ext cx="146088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怅恨久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次从旁祠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二世杀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鸿鹄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52440" y="5013360"/>
            <a:ext cx="82116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陈胜、吴广皆次当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</a:rPr>
              <a:t>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乃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</a:rPr>
              <a:t>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</a:rPr>
              <a:t>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收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31760" y="189000"/>
            <a:ext cx="129312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帝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称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06360" y="2708280"/>
            <a:ext cx="129312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、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代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助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9720" y="5013360"/>
            <a:ext cx="4281120" cy="17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古代军队编制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二十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"/>
              </a:rPr>
              <a:t>人为一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行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356000" y="1413000"/>
            <a:ext cx="457200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、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611280" y="380880"/>
            <a:ext cx="820872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苦，形容词作动词，“以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为苦”，“认为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苦”。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目，名词作动词，“使眼色”。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忿恚，形容词作动词，“使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恼怒”。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9280" y="189000"/>
            <a:ext cx="820908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词类活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、天下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仿宋"/>
                <a:ea typeface="仿宋"/>
              </a:rPr>
              <a:t>苦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秦久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、卒中往往语，皆指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仿宋"/>
                <a:ea typeface="仿宋"/>
              </a:rPr>
              <a:t>目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陈胜。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仿宋"/>
                <a:ea typeface="仿宋"/>
              </a:rPr>
              <a:t>忿恚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819520" y="0"/>
            <a:ext cx="6019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司马迁（约公元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公元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），字子长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西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夏阳人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史学家 文学家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史记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我国第一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纪传体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史  记载了从传说中的黄帝到汉武帝长达三千年的历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373737"/>
                </a:solidFill>
                <a:latin typeface="黑体"/>
                <a:ea typeface="黑体"/>
              </a:rPr>
              <a:t>纪传体</a:t>
            </a:r>
            <a:r>
              <a:rPr b="0" lang="zh-CN" sz="2800" spc="-1" strike="noStrike">
                <a:solidFill>
                  <a:srgbClr val="373737"/>
                </a:solidFill>
                <a:latin typeface="黑体"/>
                <a:ea typeface="黑体"/>
              </a:rPr>
              <a:t>是司马迁首创的体例，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被鲁迅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史家之绝唱，无韵之离骚”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imaqian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819520" y="335268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73737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373737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373737"/>
                </a:solidFill>
                <a:latin typeface="黑体"/>
                <a:ea typeface="黑体"/>
              </a:rPr>
              <a:t>史记</a:t>
            </a:r>
            <a:r>
              <a:rPr b="0" lang="en-US" sz="2800" spc="-1" strike="noStrike">
                <a:solidFill>
                  <a:srgbClr val="373737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373737"/>
                </a:solidFill>
                <a:latin typeface="黑体"/>
                <a:ea typeface="黑体"/>
              </a:rPr>
              <a:t>原名</a:t>
            </a:r>
            <a:r>
              <a:rPr b="0" lang="en-US" sz="2800" spc="-1" strike="noStrike">
                <a:solidFill>
                  <a:srgbClr val="373737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373737"/>
                </a:solidFill>
                <a:latin typeface="黑体"/>
                <a:ea typeface="黑体"/>
              </a:rPr>
              <a:t>太史公书</a:t>
            </a:r>
            <a:r>
              <a:rPr b="0" lang="en-US" sz="2800" spc="-1" strike="noStrike">
                <a:solidFill>
                  <a:srgbClr val="373737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373737"/>
                </a:solidFill>
                <a:latin typeface="黑体"/>
                <a:ea typeface="黑体"/>
              </a:rPr>
              <a:t>，包括</a:t>
            </a:r>
            <a:r>
              <a:rPr b="0" lang="en-US" sz="2800" spc="-1" strike="noStrike">
                <a:solidFill>
                  <a:srgbClr val="373737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373737"/>
                </a:solidFill>
                <a:latin typeface="黑体"/>
                <a:ea typeface="黑体"/>
              </a:rPr>
              <a:t>本纪、</a:t>
            </a:r>
            <a:r>
              <a:rPr b="0" lang="en-US" sz="2800" spc="-1" strike="noStrike">
                <a:solidFill>
                  <a:srgbClr val="373737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373737"/>
                </a:solidFill>
                <a:latin typeface="黑体"/>
                <a:ea typeface="黑体"/>
              </a:rPr>
              <a:t>表、</a:t>
            </a:r>
            <a:r>
              <a:rPr b="0" lang="en-US" sz="2800" spc="-1" strike="noStrike">
                <a:solidFill>
                  <a:srgbClr val="373737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373737"/>
                </a:solidFill>
                <a:latin typeface="黑体"/>
                <a:ea typeface="黑体"/>
              </a:rPr>
              <a:t>书、</a:t>
            </a:r>
            <a:r>
              <a:rPr b="0" lang="en-US" sz="2800" spc="-1" strike="noStrike">
                <a:solidFill>
                  <a:srgbClr val="373737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373737"/>
                </a:solidFill>
                <a:latin typeface="黑体"/>
                <a:ea typeface="黑体"/>
              </a:rPr>
              <a:t>世家、</a:t>
            </a:r>
            <a:r>
              <a:rPr b="0" lang="en-US" sz="2800" spc="-1" strike="noStrike">
                <a:solidFill>
                  <a:srgbClr val="373737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373737"/>
                </a:solidFill>
                <a:latin typeface="黑体"/>
                <a:ea typeface="黑体"/>
              </a:rPr>
              <a:t>列传、共</a:t>
            </a:r>
            <a:r>
              <a:rPr b="0" lang="en-US" sz="2800" spc="-1" strike="noStrike">
                <a:solidFill>
                  <a:srgbClr val="373737"/>
                </a:solidFill>
                <a:latin typeface="黑体"/>
                <a:ea typeface="黑体"/>
              </a:rPr>
              <a:t>130</a:t>
            </a:r>
            <a:r>
              <a:rPr b="0" lang="zh-CN" sz="2800" spc="-1" strike="noStrike">
                <a:solidFill>
                  <a:srgbClr val="373737"/>
                </a:solidFill>
                <a:latin typeface="黑体"/>
                <a:ea typeface="黑体"/>
              </a:rPr>
              <a:t>篇。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本纪</a:t>
            </a:r>
            <a:r>
              <a:rPr b="0" lang="zh-CN" sz="2800" spc="-1" strike="noStrike">
                <a:solidFill>
                  <a:srgbClr val="373737"/>
                </a:solidFill>
                <a:latin typeface="黑体"/>
                <a:ea typeface="黑体"/>
              </a:rPr>
              <a:t>记述历代帝王的事迹；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世家</a:t>
            </a:r>
            <a:r>
              <a:rPr b="0" lang="zh-CN" sz="2800" spc="-1" strike="noStrike">
                <a:solidFill>
                  <a:srgbClr val="373737"/>
                </a:solidFill>
                <a:latin typeface="黑体"/>
                <a:ea typeface="黑体"/>
              </a:rPr>
              <a:t>主要记述诸侯王国的事迹；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列传</a:t>
            </a:r>
            <a:r>
              <a:rPr b="0" lang="zh-CN" sz="2800" spc="-1" strike="noStrike">
                <a:solidFill>
                  <a:srgbClr val="373737"/>
                </a:solidFill>
                <a:latin typeface="黑体"/>
                <a:ea typeface="黑体"/>
              </a:rPr>
              <a:t>则是人臣之传。本纪和列传是全书的中心，在书中所占篇幅最在，所以称之为纪传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495360" y="334800"/>
            <a:ext cx="815328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古今异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今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亦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：逃亡。今：死亡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又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令吴广之次所旁丛祠中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：暗地。今：中间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③、卒中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往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：到处。今：表经常发生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80880" y="304920"/>
            <a:ext cx="838224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 u="sng">
                <a:solidFill>
                  <a:srgbClr val="ff3300"/>
                </a:solidFill>
                <a:uFillTx/>
                <a:latin typeface="方正姚体"/>
                <a:ea typeface="方正姚体"/>
              </a:rPr>
              <a:t>通  假  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发闾左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楷体"/>
              </a:rPr>
              <a:t>適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戍渔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適通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"/>
                <a:ea typeface="楷体"/>
              </a:rPr>
              <a:t>“谪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因获罪被发配到很远的地方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为天下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唱通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“倡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倡导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固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怪之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以，通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“已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已经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④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被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坚执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被通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“披”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披着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067280" y="404640"/>
            <a:ext cx="46479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陈涉世家</a:t>
            </a:r>
            <a:endParaRPr b="1" lang="en-US" sz="4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133720"/>
            <a:ext cx="534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陈涉，我国历史上第一次农民起义的领袖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世家</a:t>
            </a:r>
            <a:r>
              <a:rPr b="0" lang="zh-CN" sz="2400" spc="-1" strike="noStrike">
                <a:solidFill>
                  <a:srgbClr val="373737"/>
                </a:solidFill>
                <a:latin typeface="黑体"/>
                <a:ea typeface="黑体"/>
              </a:rPr>
              <a:t>主要记述诸侯王国的事迹；</a:t>
            </a: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陈涉世家</a:t>
            </a: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是写陈涉的一部传记，本课所选内容，叙述了陈涉、吴广领导大泽乡</a:t>
            </a:r>
            <a:r>
              <a:rPr b="1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起义的原因、经过和浩大的声势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表现了我国历史上第一次农民起义的伟大力量，赞颂了陈胜、吴广的反抗精神及历史功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-243000"/>
            <a:ext cx="2627280" cy="3927240"/>
            <a:chOff x="0" y="-243000"/>
            <a:chExt cx="2627280" cy="392724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0" y="-243000"/>
              <a:ext cx="2627280" cy="38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847440" y="2982240"/>
              <a:ext cx="13244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781720" y="1197000"/>
            <a:ext cx="5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陈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3429000"/>
            <a:ext cx="2665440" cy="3633480"/>
            <a:chOff x="0" y="3429000"/>
            <a:chExt cx="2665440" cy="3633480"/>
          </a:xfrm>
        </p:grpSpPr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2665440" cy="352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887760" y="6361560"/>
              <a:ext cx="135396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854800" y="4265640"/>
            <a:ext cx="42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36360" y="26028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陈涉，我国历史上第一次农民起义的领袖。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世家</a:t>
            </a:r>
            <a:r>
              <a:rPr b="0" lang="zh-CN" sz="3200" spc="-1" strike="noStrike">
                <a:solidFill>
                  <a:srgbClr val="373737"/>
                </a:solidFill>
                <a:latin typeface="黑体"/>
                <a:ea typeface="黑体"/>
              </a:rPr>
              <a:t>主要记述诸侯王国的事迹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陈涉世家</a:t>
            </a: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是写陈涉的一部传记，本课所选内容，叙述了陈涉、吴广领导大泽乡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起义的原因、经过和浩大的声势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表现了我国历史上第一次农民起义的伟大力量，赞颂了陈胜、吴广的反抗精神及历史功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141300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陈胜是农民起义的领袖，作者对这一历史人物持什么态度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6067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作者对陈胜是肯定和赞扬的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世家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是《史记》中为那些对全国政局有影响的王侯将相所作的传记，司马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将陈胜与一般的王侯齐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可见对他首先发难的功绩是予以充分肯定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560" y="62064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0"/>
            <a:ext cx="274320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读准下列字音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84320"/>
            <a:ext cx="9612360" cy="67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阳夏（         ）   辍耕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垄上（          ）       怅恨（         ）   苟富贵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相忘（         ）    嗟乎（         ）   鸿鹄（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闾左（          ）       谪戍（          ）  当行（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度已失期（        ）数谏故（        ）罾（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乃行卜（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陈胜王（        ）  为天下唱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烹食（           ）      间令（          ）  篝火（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忿恚（               ） 笞（          ）       蕲（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符离（          ）      徇（          ）       柘（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谯（         ）   六七百乘（          ）  被坚执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84320"/>
            <a:ext cx="9218520" cy="80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iǎ                       chu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lǒnɡ                        chànɡ                       ɡǒu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ù                         jiē                         hú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lǘ                             zhé                       hánɡ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uó                      shuò             zēn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ǔ                    wànɡ                         c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ēnɡ                        jiàn                       ɡō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uì                      chī                        q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ú                       xùn                      zh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qiáo                           shènɡ                          p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2T07:58:20Z</dcterms:created>
  <dc:creator/>
  <dc:description/>
  <cp:keywords/>
  <dc:language>en-US</dc:language>
  <cp:lastModifiedBy>MC SYSTEM</cp:lastModifiedBy>
  <dcterms:modified xsi:type="dcterms:W3CDTF">2016-10-08T06:40:40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